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5.png" ContentType="image/png"/>
  <Override PartName="/ppt/media/image29.jpeg" ContentType="image/jpeg"/>
  <Override PartName="/ppt/media/image31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62600" cy="3720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468EC4A-1F76-4710-A502-9A7E2C0250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654AAB6-E130-495E-BE93-78A35437967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FA585FE-17B9-4860-8AE1-5FF40F365C8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24D5AD-EAA6-48FA-AD49-AAF5701DF55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52CB974-4B67-44E4-95C2-E678FAACBCD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3CD4EC2-C5F3-4C75-B7ED-C982993D461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CBDA87C-45FC-4DAC-87AF-0260468F36A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02D4F3-6BCF-459F-A297-2A8E6B3A0A4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65BD86A-B599-483A-9CE8-B8346414065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203292-C177-47D8-8BDE-B18B307D44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9F0D79C-8928-45A6-AE4D-8FAB6F38362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07586E6-8EA5-496A-8833-F84BE81AF5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2904E70-9B20-473F-A30B-F15A844FD28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0B320E7-9CED-493E-92D4-FF9020D6F5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ADFFFD1-3177-4555-8AE1-4C34128C4435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Header Placeholder 3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Date Placeholder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FCB5-C847-4719-B356-9939E181EA47}" type="datetime">
              <a:rPr b="0" lang="en-US" sz="1200" spc="-1" strike="noStrike">
                <a:solidFill>
                  <a:srgbClr val="ffffff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fld id="{5EB5B468-6F75-4AEA-B183-83764B22C7E5}" type="datetime10">
              <a:rPr b="0" lang="en-US" sz="1200" spc="-1" strike="noStrike">
                <a:solidFill>
                  <a:srgbClr val="ffffff"/>
                </a:solidFill>
                <a:latin typeface="Calibri"/>
              </a:rPr>
              <a:t>08:51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Footer Placeholder 5"/>
          <p:cNvSpPr/>
          <p:nvPr/>
        </p:nvSpPr>
        <p:spPr>
          <a:xfrm>
            <a:off x="0" y="9429840"/>
            <a:ext cx="61182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© Корпорация Майкрософт (Microsoft Corporation), 2007. Все права защищены. Microsoft, Windows, Windows Vista и другие названия продуктов являются или могут являться зарегистрированными товарными знаками и/или товарными знаками в США и/или других странах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Информация приведена в этом документе только в демонстрационных целях и не отражает точку зрения представителей корпорации Майкрософт на момент составления данной презентации.  Поскольку корпорация Майкрософт вынуждена учитывать меняющиеся рыночные условия, она не гарантирует точность информации, указанной после составления этой презентации, а также не берет на себя подобной обязанности.  </a:t>
            </a:r>
            <a:br>
              <a:rPr sz="500"/>
            </a:br>
            <a:r>
              <a:rPr b="0" lang="en-US" sz="500" spc="-1" strike="noStrike">
                <a:solidFill>
                  <a:srgbClr val="000000"/>
                </a:solidFill>
                <a:latin typeface="Calibri"/>
              </a:rPr>
              <a:t>КОРПОРАЦИЯ МАЙКРОСОФТ НЕ ДАЕТ НИКАКИХ ЯВНЫХ, ПОДРАЗУМЕВАЕМЫХ ИЛИ ЗАКРЕПЛЕННЫХ ЗАКОНОДАТЕЛЬСТВОМ ГАРАНТИЙ В ОТНОШЕНИИ СВЕДЕНИЙ ИЗ ЭТОЙ ПРЕЗЕНТАЦИИ.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Slide Number Placeholder 6"/>
          <p:cNvSpPr/>
          <p:nvPr/>
        </p:nvSpPr>
        <p:spPr>
          <a:xfrm>
            <a:off x="6118200" y="9429840"/>
            <a:ext cx="6778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A331-F7EC-4607-93B7-A9724F1E13C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9FF53A-325B-467C-AB01-A311C49F92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BAD84931-99EB-484A-9236-72877079C2F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4BC9D5C-30AC-45CC-951E-CBA8DB2195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35804C9-4CB2-4378-BA85-35070FF62D7C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D65665A-C812-4363-A0C4-CF99785FF6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C089787-E0A5-49CF-9D43-C4189D1BEA1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B72E33-6369-45CB-9E95-7E6C9555944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3511296-C8CD-49E3-A204-01A598D358F6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354727D-86D4-4DB9-85FE-11D38D554A6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096CA0-6E28-4E5F-AB86-6E3982C8721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3B17F2E-BEE8-4471-A5B9-1864C90BF25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62600" cy="372096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Номер слайда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C5A33B1-A2A4-4BA5-8A0E-EC786FECE7BB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Верхний колонтитул 1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1516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9440" y="141264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1516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49440" y="3334320"/>
            <a:ext cx="26989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30040"/>
            <a:ext cx="8382240" cy="308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6040" y="333432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412640"/>
            <a:ext cx="409032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334320"/>
            <a:ext cx="8382240" cy="17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2640"/>
            <a:ext cx="8382240" cy="367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92400" indent="-3924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05040" indent="-3924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246320" indent="-34092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588680" indent="-34236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1922040" indent="-3330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Рисунок 3" descr="white rectangle.png"/>
          <p:cNvPicPr/>
          <p:nvPr/>
        </p:nvPicPr>
        <p:blipFill>
          <a:blip r:embed="rId3"/>
          <a:srcRect l="0" t="0" r="0" b="10454"/>
          <a:stretch/>
        </p:blipFill>
        <p:spPr>
          <a:xfrm>
            <a:off x="0" y="1300320"/>
            <a:ext cx="9144000" cy="5557680"/>
          </a:xfrm>
          <a:prstGeom prst="rect">
            <a:avLst/>
          </a:prstGeom>
          <a:ln w="0">
            <a:noFill/>
          </a:ln>
        </p:spPr>
      </p:pic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80880" y="230040"/>
            <a:ext cx="838224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22160" y="1905120"/>
            <a:ext cx="8040960" cy="386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1" marL="3841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2" marL="760320" indent="-6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3" marL="1093680" indent="6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4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5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  <a:p>
            <a:pPr lvl="6" marL="1425600" indent="403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package" Target="../embeddings/oleObject1.xlsx"/><Relationship Id="rId8" Type="http://schemas.openxmlformats.org/officeDocument/2006/relationships/image" Target="../media/image3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заставка-1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0" y="2928960"/>
            <a:ext cx="9144000" cy="15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normAutofit fontScale="93000"/>
          </a:bodyPr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НИЦИПАЛЬНАЯ ПРОГРАММ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ФТЕЮГАНСКОГО РАЙО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БЕЗОПАСНОСТЬ ЖИЗНЕ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425"/>
              </a:spcAft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 ПРОФИЛАКТИКА ПРАВОНАРУШЕНИЙ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87" name="Прямоугольник 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TextBox 10"/>
            <p:cNvSpPr/>
            <p:nvPr/>
          </p:nvSpPr>
          <p:spPr>
            <a:xfrm>
              <a:off x="949320" y="163440"/>
              <a:ext cx="448632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9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" name="Прямоугольник 2" descr=""/>
          <p:cNvPicPr/>
          <p:nvPr/>
        </p:nvPicPr>
        <p:blipFill>
          <a:blip r:embed="rId3"/>
          <a:stretch/>
        </p:blipFill>
        <p:spPr>
          <a:xfrm>
            <a:off x="-19080" y="1000080"/>
            <a:ext cx="9163080" cy="7254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8"/>
          <p:cNvSpPr/>
          <p:nvPr/>
        </p:nvSpPr>
        <p:spPr>
          <a:xfrm>
            <a:off x="2493000" y="5445000"/>
            <a:ext cx="265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уратор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Прямоугольник 11"/>
          <p:cNvSpPr/>
          <p:nvPr/>
        </p:nvSpPr>
        <p:spPr>
          <a:xfrm>
            <a:off x="5148360" y="5445000"/>
            <a:ext cx="381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ый заместител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лавы Нефтеюганского рай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.А.Кудашк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2F17686-F99A-40E5-B455-8B5C13BE608F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рганизация и проведение мероприятий, направленных на профилактику правонарушений несовершеннолетни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8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8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9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9" name="Скругленный прямоугольник 39"/>
          <p:cNvSpPr/>
          <p:nvPr/>
        </p:nvSpPr>
        <p:spPr>
          <a:xfrm>
            <a:off x="34920" y="3344760"/>
            <a:ext cx="2016000" cy="3324240"/>
          </a:xfrm>
          <a:custGeom>
            <a:avLst/>
            <a:gdLst>
              <a:gd name="textAreaLeft" fmla="*/ 0 w 2016000"/>
              <a:gd name="textAreaRight" fmla="*/ 2016360 w 2016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614">
                <a:moveTo>
                  <a:pt x="0" y="0"/>
                </a:moveTo>
                <a:arcTo wR="0" hR="0" stAng="16200000" swAng="-5400000"/>
                <a:lnTo>
                  <a:pt x="0" y="35614"/>
                </a:lnTo>
                <a:arcTo wR="0" hR="0" stAng="10800000" swAng="-5400000"/>
                <a:lnTo>
                  <a:pt x="21600" y="35614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рганизация и проведение мероприятий, направленных на профилактику правонарушений несовершеннолетн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Скругленный прямоугольник 27"/>
          <p:cNvSpPr/>
          <p:nvPr/>
        </p:nvSpPr>
        <p:spPr>
          <a:xfrm>
            <a:off x="2124000" y="4076640"/>
            <a:ext cx="4859280" cy="1728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оведение профилактических мер, направленных на снижение вовлеченности несовершеннолетних в противоправную и преступную деятельность, путем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проведения спортивных, культурных, образовательных мероприятий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- конкурсов по формированию законопослушного поведения и здорового образа жизни несовершеннолетн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DB6A403-233D-4158-B6FE-F5D5EE757B70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0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0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Box 2"/>
          <p:cNvSpPr/>
          <p:nvPr/>
        </p:nvSpPr>
        <p:spPr>
          <a:xfrm>
            <a:off x="147600" y="2608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3880" indent="-89388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Реализация профилактического комплекса мер в антинаркотической деятельности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31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1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2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4" name="Скругленный прямоугольник 39"/>
          <p:cNvSpPr/>
          <p:nvPr/>
        </p:nvSpPr>
        <p:spPr>
          <a:xfrm>
            <a:off x="34920" y="3344760"/>
            <a:ext cx="1873080" cy="3324240"/>
          </a:xfrm>
          <a:custGeom>
            <a:avLst/>
            <a:gdLst>
              <a:gd name="textAreaLeft" fmla="*/ 0 w 1873080"/>
              <a:gd name="textAreaRight" fmla="*/ 1873440 w 187308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8331">
                <a:moveTo>
                  <a:pt x="0" y="0"/>
                </a:moveTo>
                <a:arcTo wR="0" hR="0" stAng="16200000" swAng="-5400000"/>
                <a:lnTo>
                  <a:pt x="0" y="38331"/>
                </a:lnTo>
                <a:arcTo wR="0" hR="0" stAng="10800000" swAng="-5400000"/>
                <a:lnTo>
                  <a:pt x="21600" y="383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офилактика незаконного оборота и потребления наркотических средств и психотропных вещест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Скругленный прямоугольник 27"/>
          <p:cNvSpPr/>
          <p:nvPr/>
        </p:nvSpPr>
        <p:spPr>
          <a:xfrm>
            <a:off x="1944720" y="2952720"/>
            <a:ext cx="5038560" cy="3871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профессионального уровня, квалификации специалистов субъектов профилактики наркомании: организация и проведение семинаров, тренингов, конференций, совещаний по вопросам реализации антинаркотической политик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осведомленности граждан о рисках, связанных с незаконным потреблением наркотиков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формирование негативного отношения к незаконному обороту и потреблению наркотиков в целях привлечения молодежи к решению проблем наркомани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я муниципальных мероприятий по профилактике незаконного потребления наркотических средств и психотропных веществ, наркомании направленных на снижение наркотизации насе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рганизацию и проведение антинаркотических мероприят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риобретение атрибутики с антинаркотическими логотип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Антинаркотическую пропаганду (социальная реклама в СМИ, наружная социальная реклама)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Скругленный прямоугольник 45"/>
          <p:cNvSpPr/>
          <p:nvPr/>
        </p:nvSpPr>
        <p:spPr>
          <a:xfrm>
            <a:off x="7045200" y="33465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9B292C4-B2B0-4D21-9D42-EEFC420A0BA4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3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муниципального казенного учреждения «Единая дежурно-диспетчерская служба Нефтеюганского района»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7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38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3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7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48" name="Скругленный прямоугольник 39"/>
          <p:cNvSpPr/>
          <p:nvPr/>
        </p:nvSpPr>
        <p:spPr>
          <a:xfrm>
            <a:off x="108000" y="33447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деятельности муниципального казенного учреждения «Единая дежурно-диспетчерская служба Нефтеюганского район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Скругленный прямоугольник 40"/>
          <p:cNvSpPr/>
          <p:nvPr/>
        </p:nvSpPr>
        <p:spPr>
          <a:xfrm>
            <a:off x="1979640" y="3355920"/>
            <a:ext cx="4829040" cy="1200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деятельности муниципального казенного учреждения «Единая дежурно-диспетчерская служба Нефтеюганского района»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0" name="Picture 12" descr="img_sistema_112_700_390"/>
          <p:cNvPicPr/>
          <p:nvPr/>
        </p:nvPicPr>
        <p:blipFill>
          <a:blip r:embed="rId5"/>
          <a:stretch/>
        </p:blipFill>
        <p:spPr>
          <a:xfrm>
            <a:off x="2163600" y="4748040"/>
            <a:ext cx="2140200" cy="36147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0" descr="http://kit.volganet.ru/upload/iblock/93e/foto-29.07.2015_1.jpeg"/>
          <p:cNvPicPr/>
          <p:nvPr/>
        </p:nvPicPr>
        <p:blipFill>
          <a:blip r:embed="rId6"/>
          <a:stretch/>
        </p:blipFill>
        <p:spPr>
          <a:xfrm>
            <a:off x="4522680" y="4748040"/>
            <a:ext cx="2060640" cy="3614760"/>
          </a:xfrm>
          <a:prstGeom prst="rect">
            <a:avLst/>
          </a:prstGeom>
          <a:ln w="0">
            <a:noFill/>
          </a:ln>
        </p:spPr>
      </p:pic>
      <p:sp>
        <p:nvSpPr>
          <p:cNvPr id="352" name="Скругленный прямоугольник 27"/>
          <p:cNvSpPr/>
          <p:nvPr/>
        </p:nvSpPr>
        <p:spPr>
          <a:xfrm>
            <a:off x="6972480" y="3346560"/>
            <a:ext cx="2071440" cy="3324240"/>
          </a:xfrm>
          <a:custGeom>
            <a:avLst/>
            <a:gdLst/>
            <a:ahLst/>
            <a:rect l="l" t="t" r="r" b="b"/>
            <a:pathLst>
              <a:path w="21600" h="34661">
                <a:moveTo>
                  <a:pt x="0" y="0"/>
                </a:moveTo>
                <a:arcTo wR="0" hR="0" stAng="16200000" swAng="-5400000"/>
                <a:lnTo>
                  <a:pt x="0" y="34661"/>
                </a:lnTo>
                <a:arcTo wR="0" hR="0" stAng="10800000" swAng="-5400000"/>
                <a:lnTo>
                  <a:pt x="21600" y="3466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2CDBEA7-7E17-4248-B738-C4DE810E66A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56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58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9" name="TextBox 2"/>
          <p:cNvSpPr/>
          <p:nvPr/>
        </p:nvSpPr>
        <p:spPr>
          <a:xfrm>
            <a:off x="152280" y="269244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осуществления функций и полномочий по первичному воинскому учету органами местного самоуправления поселений, муниципальных и городских округ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179280" y="1512720"/>
            <a:ext cx="8845560" cy="30708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труктурные элементы, не входящие в направления (подпрограммы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Прямоугольник 23"/>
          <p:cNvSpPr/>
          <p:nvPr/>
        </p:nvSpPr>
        <p:spPr>
          <a:xfrm>
            <a:off x="541440" y="2036880"/>
            <a:ext cx="2352600" cy="5569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Овал 25"/>
          <p:cNvSpPr/>
          <p:nvPr/>
        </p:nvSpPr>
        <p:spPr>
          <a:xfrm>
            <a:off x="216000" y="204480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Рисунок 26" descr=""/>
          <p:cNvPicPr/>
          <p:nvPr/>
        </p:nvPicPr>
        <p:blipFill>
          <a:blip r:embed="rId2"/>
          <a:stretch/>
        </p:blipFill>
        <p:spPr>
          <a:xfrm>
            <a:off x="306360" y="213660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364" name="Прямоугольник 29"/>
          <p:cNvSpPr/>
          <p:nvPr/>
        </p:nvSpPr>
        <p:spPr>
          <a:xfrm>
            <a:off x="725040" y="217188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Прямоугольник 31"/>
          <p:cNvSpPr/>
          <p:nvPr/>
        </p:nvSpPr>
        <p:spPr>
          <a:xfrm>
            <a:off x="3565440" y="2036880"/>
            <a:ext cx="2351160" cy="55692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Прямоугольник 32"/>
          <p:cNvSpPr/>
          <p:nvPr/>
        </p:nvSpPr>
        <p:spPr>
          <a:xfrm>
            <a:off x="4105440" y="214632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Овал 33"/>
          <p:cNvSpPr/>
          <p:nvPr/>
        </p:nvSpPr>
        <p:spPr>
          <a:xfrm>
            <a:off x="3241800" y="204480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Рисунок 34" descr=""/>
          <p:cNvPicPr/>
          <p:nvPr/>
        </p:nvPicPr>
        <p:blipFill>
          <a:blip r:embed="rId3"/>
          <a:stretch/>
        </p:blipFill>
        <p:spPr>
          <a:xfrm>
            <a:off x="3313080" y="210348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35"/>
          <p:cNvSpPr/>
          <p:nvPr/>
        </p:nvSpPr>
        <p:spPr>
          <a:xfrm>
            <a:off x="6431040" y="2036880"/>
            <a:ext cx="2376360" cy="55692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Прямоугольник 36"/>
          <p:cNvSpPr/>
          <p:nvPr/>
        </p:nvSpPr>
        <p:spPr>
          <a:xfrm>
            <a:off x="6961680" y="2052720"/>
            <a:ext cx="16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Ответ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сполнител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Овал 37"/>
          <p:cNvSpPr/>
          <p:nvPr/>
        </p:nvSpPr>
        <p:spPr>
          <a:xfrm>
            <a:off x="6192720" y="204480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Рисунок 38" descr=""/>
          <p:cNvPicPr/>
          <p:nvPr/>
        </p:nvPicPr>
        <p:blipFill>
          <a:blip r:embed="rId4"/>
          <a:stretch/>
        </p:blipFill>
        <p:spPr>
          <a:xfrm>
            <a:off x="6246720" y="2133720"/>
            <a:ext cx="451080" cy="411120"/>
          </a:xfrm>
          <a:prstGeom prst="rect">
            <a:avLst/>
          </a:prstGeom>
          <a:ln w="0">
            <a:noFill/>
          </a:ln>
        </p:spPr>
      </p:pic>
      <p:sp>
        <p:nvSpPr>
          <p:cNvPr id="374" name="Скругленный прямоугольник 39"/>
          <p:cNvSpPr/>
          <p:nvPr/>
        </p:nvSpPr>
        <p:spPr>
          <a:xfrm>
            <a:off x="108000" y="3344760"/>
            <a:ext cx="2284200" cy="3324240"/>
          </a:xfrm>
          <a:custGeom>
            <a:avLst/>
            <a:gdLst>
              <a:gd name="textAreaLeft" fmla="*/ 0 w 2284200"/>
              <a:gd name="textAreaRight" fmla="*/ 2284560 w 22842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1433">
                <a:moveTo>
                  <a:pt x="0" y="0"/>
                </a:moveTo>
                <a:arcTo wR="0" hR="0" stAng="16200000" swAng="-5400000"/>
                <a:lnTo>
                  <a:pt x="0" y="31433"/>
                </a:lnTo>
                <a:arcTo wR="0" hR="0" stAng="10800000" swAng="-5400000"/>
                <a:lnTo>
                  <a:pt x="21600" y="3143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существление первичного воинского учета органами местного самоуправления поселений, муниципальных и городских округ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Скругленный прямоугольник 40"/>
          <p:cNvSpPr/>
          <p:nvPr/>
        </p:nvSpPr>
        <p:spPr>
          <a:xfrm>
            <a:off x="2556000" y="3355920"/>
            <a:ext cx="3875040" cy="1513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лномочий по осуществлению первичного воинского учета органами местного самоуправления поселений, на территориях которых отсутствуют структурные подразделения военных комиссариатов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Скругленный прямоугольник 27"/>
          <p:cNvSpPr/>
          <p:nvPr/>
        </p:nvSpPr>
        <p:spPr>
          <a:xfrm>
            <a:off x="6594480" y="3346560"/>
            <a:ext cx="2449440" cy="339552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3395520"/>
              <a:gd name="textAreaBottom" fmla="*/ 3395880 h 3395520"/>
            </a:gdLst>
            <a:ahLst/>
            <a:rect l="textAreaLeft" t="textAreaTop" r="textAreaRight" b="textAreaBottom"/>
            <a:pathLst>
              <a:path w="21600" h="29942">
                <a:moveTo>
                  <a:pt x="0" y="0"/>
                </a:moveTo>
                <a:arcTo wR="0" hR="0" stAng="16200000" swAng="-5400000"/>
                <a:lnTo>
                  <a:pt x="0" y="29942"/>
                </a:lnTo>
                <a:arcTo wR="0" hR="0" stAng="10800000" swAng="-5400000"/>
                <a:lnTo>
                  <a:pt x="21600" y="29942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Администрация Нефтеюганского района (отдел специальных мероприятий администрации Нефтеюганского район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тдел планирования анализа и отчетности администрации Нефтеюганского района) / Администрации городского и сельских поселений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FE55BA8-AAA8-4D8B-96DC-0E43FB460E68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38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38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3" name="TextBox 30"/>
          <p:cNvSpPr/>
          <p:nvPr/>
        </p:nvSpPr>
        <p:spPr>
          <a:xfrm>
            <a:off x="34920" y="746280"/>
            <a:ext cx="90820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та результ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Скругленный прямоугольник 39"/>
          <p:cNvSpPr/>
          <p:nvPr/>
        </p:nvSpPr>
        <p:spPr>
          <a:xfrm>
            <a:off x="108000" y="2690640"/>
            <a:ext cx="263520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ед. =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Скругленный прямоугольник 27"/>
          <p:cNvSpPr/>
          <p:nvPr/>
        </p:nvSpPr>
        <p:spPr>
          <a:xfrm>
            <a:off x="1969920" y="1335240"/>
            <a:ext cx="5040360" cy="11458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ий объем финансирования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 2030 года: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45 578,58803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на 2025 год: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Скругленный прямоугольник 45"/>
          <p:cNvSpPr/>
          <p:nvPr/>
        </p:nvSpPr>
        <p:spPr>
          <a:xfrm>
            <a:off x="2916360" y="2690640"/>
            <a:ext cx="316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5 ед.           94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9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Группа 54"/>
          <p:cNvGrpSpPr/>
          <p:nvPr/>
        </p:nvGrpSpPr>
        <p:grpSpPr>
          <a:xfrm>
            <a:off x="0" y="1123920"/>
            <a:ext cx="9144000" cy="138240"/>
            <a:chOff x="0" y="1123920"/>
            <a:chExt cx="9144000" cy="138240"/>
          </a:xfrm>
        </p:grpSpPr>
        <p:grpSp>
          <p:nvGrpSpPr>
            <p:cNvPr id="388" name="Прямоугольник 40"/>
            <p:cNvGrpSpPr/>
            <p:nvPr/>
          </p:nvGrpSpPr>
          <p:grpSpPr>
            <a:xfrm>
              <a:off x="0" y="1123920"/>
              <a:ext cx="9144000" cy="113040"/>
              <a:chOff x="0" y="1123920"/>
              <a:chExt cx="9144000" cy="113040"/>
            </a:xfrm>
          </p:grpSpPr>
          <p:pic>
            <p:nvPicPr>
              <p:cNvPr id="389" name="Прямоугольник 40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123920"/>
                <a:ext cx="9144000" cy="11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0" name=""/>
              <p:cNvSpPr/>
              <p:nvPr/>
            </p:nvSpPr>
            <p:spPr>
              <a:xfrm>
                <a:off x="77760" y="1144800"/>
                <a:ext cx="8988480" cy="3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1" name="Прямоугольник 41"/>
            <p:cNvGrpSpPr/>
            <p:nvPr/>
          </p:nvGrpSpPr>
          <p:grpSpPr>
            <a:xfrm>
              <a:off x="0" y="1154880"/>
              <a:ext cx="9144000" cy="107280"/>
              <a:chOff x="0" y="1154880"/>
              <a:chExt cx="9144000" cy="107280"/>
            </a:xfrm>
          </p:grpSpPr>
          <p:pic>
            <p:nvPicPr>
              <p:cNvPr id="392" name="Прямоугольник 41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1154880"/>
                <a:ext cx="9144000" cy="10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" name=""/>
              <p:cNvSpPr/>
              <p:nvPr/>
            </p:nvSpPr>
            <p:spPr>
              <a:xfrm rot="10800000">
                <a:off x="77760" y="1175040"/>
                <a:ext cx="8988480" cy="3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394" name="Рисунок 11" descr=""/>
          <p:cNvPicPr/>
          <p:nvPr/>
        </p:nvPicPr>
        <p:blipFill>
          <a:blip r:embed="rId4"/>
          <a:stretch/>
        </p:blipFill>
        <p:spPr>
          <a:xfrm>
            <a:off x="4392720" y="3897360"/>
            <a:ext cx="323640" cy="323640"/>
          </a:xfrm>
          <a:prstGeom prst="rect">
            <a:avLst/>
          </a:prstGeom>
          <a:ln w="0">
            <a:noFill/>
          </a:ln>
        </p:spPr>
      </p:pic>
      <p:sp>
        <p:nvSpPr>
          <p:cNvPr id="395" name="Скругленный прямоугольник 18"/>
          <p:cNvSpPr/>
          <p:nvPr/>
        </p:nvSpPr>
        <p:spPr>
          <a:xfrm>
            <a:off x="6227640" y="2690640"/>
            <a:ext cx="2808360" cy="1911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ед.             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0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6" name="Рисунок 11" descr=""/>
          <p:cNvPicPr/>
          <p:nvPr/>
        </p:nvPicPr>
        <p:blipFill>
          <a:blip r:embed="rId5"/>
          <a:stretch/>
        </p:blipFill>
        <p:spPr>
          <a:xfrm>
            <a:off x="7470720" y="382572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397" name="Скругленный прямоугольник 20"/>
          <p:cNvSpPr/>
          <p:nvPr/>
        </p:nvSpPr>
        <p:spPr>
          <a:xfrm>
            <a:off x="2916360" y="4811760"/>
            <a:ext cx="3168360" cy="19112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458 ед.            1455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  <a:ea typeface="Times New Roman"/>
              </a:rPr>
              <a:t>План на 2025 год: </a:t>
            </a:r>
            <a:r>
              <a:rPr b="1" lang="ru-RU" sz="1800" spc="-1" strike="noStrike">
                <a:solidFill>
                  <a:srgbClr val="00ff00"/>
                </a:solidFill>
                <a:latin typeface="Calibri"/>
                <a:ea typeface="Times New Roman"/>
              </a:rPr>
              <a:t>1458 е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Рисунок 10" descr=""/>
          <p:cNvPicPr/>
          <p:nvPr/>
        </p:nvPicPr>
        <p:blipFill>
          <a:blip r:embed="rId6"/>
          <a:stretch/>
        </p:blipFill>
        <p:spPr>
          <a:xfrm>
            <a:off x="4356000" y="5805360"/>
            <a:ext cx="324000" cy="3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144E8A4-E115-409F-BC57-FCCCE1D8509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401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Box 17"/>
            <p:cNvSpPr/>
            <p:nvPr/>
          </p:nvSpPr>
          <p:spPr>
            <a:xfrm>
              <a:off x="949320" y="163440"/>
              <a:ext cx="4286160" cy="65736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2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район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403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0" y="71928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8"/>
          <p:cNvSpPr/>
          <p:nvPr/>
        </p:nvSpPr>
        <p:spPr>
          <a:xfrm>
            <a:off x="6227640" y="1314360"/>
            <a:ext cx="291636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0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 год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7 387,46018 тыс. руб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2" descr="C:\Users\Sychevam\Desktop\Муниципальные программы\1. МП 11 Защита населения 2019-2024 до 2030\2019\Проект изменения на 2019 год\38-1488213701.jpg"/>
          <p:cNvPicPr/>
          <p:nvPr/>
        </p:nvPicPr>
        <p:blipFill>
          <a:blip r:embed="rId3"/>
          <a:stretch/>
        </p:blipFill>
        <p:spPr>
          <a:xfrm>
            <a:off x="36360" y="6094440"/>
            <a:ext cx="1297080" cy="7351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3" descr="C:\Users\Sychevam\Desktop\Муниципальные программы\1. МП 11 Защита населения 2019-2024 до 2030\2019\Проект изменения на 2019 год\russian_money.jpg"/>
          <p:cNvPicPr/>
          <p:nvPr/>
        </p:nvPicPr>
        <p:blipFill>
          <a:blip r:embed="rId4"/>
          <a:stretch/>
        </p:blipFill>
        <p:spPr>
          <a:xfrm>
            <a:off x="7821720" y="6093000"/>
            <a:ext cx="1295280" cy="734760"/>
          </a:xfrm>
          <a:prstGeom prst="rect">
            <a:avLst/>
          </a:prstGeom>
          <a:ln w="0">
            <a:noFill/>
          </a:ln>
        </p:spPr>
      </p:pic>
      <p:grpSp>
        <p:nvGrpSpPr>
          <p:cNvPr id="408" name="Группа 54"/>
          <p:cNvGrpSpPr/>
          <p:nvPr/>
        </p:nvGrpSpPr>
        <p:grpSpPr>
          <a:xfrm>
            <a:off x="0" y="1203480"/>
            <a:ext cx="9144000" cy="137880"/>
            <a:chOff x="0" y="1203480"/>
            <a:chExt cx="9144000" cy="137880"/>
          </a:xfrm>
        </p:grpSpPr>
        <p:grpSp>
          <p:nvGrpSpPr>
            <p:cNvPr id="409" name="Прямоугольник 18"/>
            <p:cNvGrpSpPr/>
            <p:nvPr/>
          </p:nvGrpSpPr>
          <p:grpSpPr>
            <a:xfrm>
              <a:off x="0" y="1203480"/>
              <a:ext cx="9144000" cy="112680"/>
              <a:chOff x="0" y="1203480"/>
              <a:chExt cx="9144000" cy="112680"/>
            </a:xfrm>
          </p:grpSpPr>
          <p:pic>
            <p:nvPicPr>
              <p:cNvPr id="410" name="Прямоугольник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203480"/>
                <a:ext cx="914400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" name=""/>
              <p:cNvSpPr/>
              <p:nvPr/>
            </p:nvSpPr>
            <p:spPr>
              <a:xfrm>
                <a:off x="77760" y="1224360"/>
                <a:ext cx="8988480" cy="3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2" name="Прямоугольник 19"/>
            <p:cNvGrpSpPr/>
            <p:nvPr/>
          </p:nvGrpSpPr>
          <p:grpSpPr>
            <a:xfrm>
              <a:off x="0" y="1234440"/>
              <a:ext cx="9144000" cy="106920"/>
              <a:chOff x="0" y="1234440"/>
              <a:chExt cx="9144000" cy="106920"/>
            </a:xfrm>
          </p:grpSpPr>
          <p:pic>
            <p:nvPicPr>
              <p:cNvPr id="413" name="Прямоугольник 19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1234440"/>
                <a:ext cx="9144000" cy="106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4" name=""/>
              <p:cNvSpPr/>
              <p:nvPr/>
            </p:nvSpPr>
            <p:spPr>
              <a:xfrm rot="10800000">
                <a:off x="77760" y="1254960"/>
                <a:ext cx="8988480" cy="3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1160"/>
                    <a:tab algn="l" pos="1822320"/>
                    <a:tab algn="l" pos="2733840"/>
                    <a:tab algn="l" pos="3645000"/>
                    <a:tab algn="l" pos="4556160"/>
                    <a:tab algn="l" pos="5467320"/>
                    <a:tab algn="l" pos="6378480"/>
                    <a:tab algn="l" pos="7289640"/>
                    <a:tab algn="l" pos="8201160"/>
                    <a:tab algn="l" pos="9112320"/>
                    <a:tab algn="l" pos="10023480"/>
                    <a:tab algn="l" pos="109346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415" name="Диаграмма 14"/>
          <p:cNvGraphicFramePr/>
          <p:nvPr/>
        </p:nvGraphicFramePr>
        <p:xfrm>
          <a:off x="28440" y="1330200"/>
          <a:ext cx="9029880" cy="548640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416" name="Диаграмма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440" y="1330200"/>
                    <a:ext cx="9029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6"/>
          <p:cNvSpPr/>
          <p:nvPr/>
        </p:nvSpPr>
        <p:spPr>
          <a:xfrm>
            <a:off x="142920" y="135252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95" name="TextBox 8"/>
          <p:cNvSpPr/>
          <p:nvPr/>
        </p:nvSpPr>
        <p:spPr>
          <a:xfrm>
            <a:off x="652320" y="1679400"/>
            <a:ext cx="792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9"/>
          <p:cNvSpPr/>
          <p:nvPr/>
        </p:nvSpPr>
        <p:spPr>
          <a:xfrm>
            <a:off x="149400" y="2378160"/>
            <a:ext cx="55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10"/>
          <p:cNvSpPr/>
          <p:nvPr/>
        </p:nvSpPr>
        <p:spPr>
          <a:xfrm>
            <a:off x="949320" y="2778120"/>
            <a:ext cx="79884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партамент экономического развития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Юридический комитет администрации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о делам несовершеннолетних, защите их прав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специальных мероприятий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дел планирования, анализа и учета администрации 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4960" indent="-264960" algn="just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20160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министрации городского и сельских поселений Нефтеюганского райо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6"/>
          <p:cNvSpPr/>
          <p:nvPr/>
        </p:nvSpPr>
        <p:spPr>
          <a:xfrm>
            <a:off x="8755200" y="2844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E1151FA-1BFC-4F78-A3B4-42B677C836D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00" name="Прямоугольник 12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TextBox 13"/>
            <p:cNvSpPr/>
            <p:nvPr/>
          </p:nvSpPr>
          <p:spPr>
            <a:xfrm>
              <a:off x="949320" y="163440"/>
              <a:ext cx="43862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02" name="Picture 6" descr="C:\Users\VShishkanov.ADMOIL\Downloads\герб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0" y="822240"/>
            <a:ext cx="9144000" cy="4032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1"/>
          <p:cNvSpPr/>
          <p:nvPr/>
        </p:nvSpPr>
        <p:spPr>
          <a:xfrm>
            <a:off x="1020600" y="1098720"/>
            <a:ext cx="8088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14200" y="107316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214200" y="2481120"/>
            <a:ext cx="135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Box 14"/>
          <p:cNvSpPr/>
          <p:nvPr/>
        </p:nvSpPr>
        <p:spPr>
          <a:xfrm>
            <a:off x="1738440" y="2517840"/>
            <a:ext cx="5667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5568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2" descr="img_sistema_112_700_390"/>
          <p:cNvPicPr/>
          <p:nvPr/>
        </p:nvPicPr>
        <p:blipFill>
          <a:blip r:embed="rId2"/>
          <a:stretch/>
        </p:blipFill>
        <p:spPr>
          <a:xfrm>
            <a:off x="7827840" y="1994040"/>
            <a:ext cx="1121040" cy="187632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8758080" y="20520"/>
            <a:ext cx="3621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1855490A-6A3C-481A-8D0C-D0EC81E13BC3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11" name="Прямоугольник 19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TextBox 20"/>
            <p:cNvSpPr/>
            <p:nvPr/>
          </p:nvSpPr>
          <p:spPr>
            <a:xfrm>
              <a:off x="949320" y="163440"/>
              <a:ext cx="434340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3" name="Picture 6" descr="C:\Users\VShishkanov.ADMOIL\Downloads\герб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4" name="Прямоугольник 18"/>
          <p:cNvSpPr/>
          <p:nvPr/>
        </p:nvSpPr>
        <p:spPr>
          <a:xfrm>
            <a:off x="0" y="62262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Муниципальной программой не предусмотрена реализация национальных проектов Российской Федерации, региональных и муниципальных проекто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Рисунок 21" descr=""/>
          <p:cNvPicPr/>
          <p:nvPr/>
        </p:nvPicPr>
        <p:blipFill>
          <a:blip r:embed="rId4"/>
          <a:stretch/>
        </p:blipFill>
        <p:spPr>
          <a:xfrm>
            <a:off x="219240" y="2835360"/>
            <a:ext cx="1244520" cy="19018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2" descr=""/>
          <p:cNvPicPr/>
          <p:nvPr/>
        </p:nvPicPr>
        <p:blipFill>
          <a:blip r:embed="rId5"/>
          <a:stretch/>
        </p:blipFill>
        <p:spPr>
          <a:xfrm>
            <a:off x="291960" y="4821120"/>
            <a:ext cx="1140120" cy="1871640"/>
          </a:xfrm>
          <a:prstGeom prst="rect">
            <a:avLst/>
          </a:prstGeom>
          <a:ln w="0">
            <a:noFill/>
          </a:ln>
        </p:spPr>
      </p:pic>
      <p:sp>
        <p:nvSpPr>
          <p:cNvPr id="117" name="TextBox 23"/>
          <p:cNvSpPr/>
          <p:nvPr/>
        </p:nvSpPr>
        <p:spPr>
          <a:xfrm>
            <a:off x="1738440" y="4452840"/>
            <a:ext cx="5667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Профилактика правонарушений, незаконного оборота и потребления наркотических средств и психотропных вещест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Рисунок 24" descr=""/>
          <p:cNvPicPr/>
          <p:nvPr/>
        </p:nvPicPr>
        <p:blipFill>
          <a:blip r:embed="rId6"/>
          <a:stretch/>
        </p:blipFill>
        <p:spPr>
          <a:xfrm>
            <a:off x="7845480" y="3024360"/>
            <a:ext cx="1103400" cy="197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C:\Users\Sychevam\Desktop\Муниципальные программы\1. МП 11 Защита населения 2019-2024 до 2030\2019\Проект изменения на 2019 год\IMG_20180524_113107.jpg"/>
          <p:cNvPicPr/>
          <p:nvPr/>
        </p:nvPicPr>
        <p:blipFill>
          <a:blip r:embed="rId7"/>
          <a:stretch/>
        </p:blipFill>
        <p:spPr>
          <a:xfrm>
            <a:off x="7851600" y="4095720"/>
            <a:ext cx="1109880" cy="17082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3" descr=""/>
          <p:cNvPicPr/>
          <p:nvPr/>
        </p:nvPicPr>
        <p:blipFill>
          <a:blip r:embed="rId8"/>
          <a:stretch/>
        </p:blipFill>
        <p:spPr>
          <a:xfrm>
            <a:off x="7851600" y="5041800"/>
            <a:ext cx="1109880" cy="191304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9"/>
          <a:stretch/>
        </p:blipFill>
        <p:spPr>
          <a:xfrm>
            <a:off x="285840" y="3822840"/>
            <a:ext cx="1109520" cy="186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0C523AB-483D-4FFB-8F18-C13A1D10604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2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8" name="TextBox 2"/>
          <p:cNvSpPr/>
          <p:nvPr/>
        </p:nvSpPr>
        <p:spPr>
          <a:xfrm>
            <a:off x="174600" y="2806560"/>
            <a:ext cx="872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материально-техническими средствами, предназначенными для предупреждения и ликвидации чрезвычайных ситуаци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39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36"/>
          <p:cNvSpPr/>
          <p:nvPr/>
        </p:nvSpPr>
        <p:spPr>
          <a:xfrm>
            <a:off x="6739560" y="23796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39"/>
          <p:cNvSpPr/>
          <p:nvPr/>
        </p:nvSpPr>
        <p:spPr>
          <a:xfrm>
            <a:off x="108000" y="3427560"/>
            <a:ext cx="1800000" cy="3324240"/>
          </a:xfrm>
          <a:custGeom>
            <a:avLst/>
            <a:gdLst>
              <a:gd name="textAreaLeft" fmla="*/ 0 w 1800000"/>
              <a:gd name="textAreaRight" fmla="*/ 1800360 w 18000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87">
                <a:moveTo>
                  <a:pt x="0" y="0"/>
                </a:moveTo>
                <a:arcTo wR="0" hR="0" stAng="16200000" swAng="-5400000"/>
                <a:lnTo>
                  <a:pt x="0" y="39887"/>
                </a:lnTo>
                <a:arcTo wR="0" hR="0" stAng="10800000" swAng="-5400000"/>
                <a:lnTo>
                  <a:pt x="21600" y="3988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Предупреждени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и ликвидация чрезвычайных ситуаций природного и техногенного характера на территории Нефтеюган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Скругленный прямоугольник 40"/>
          <p:cNvSpPr/>
          <p:nvPr/>
        </p:nvSpPr>
        <p:spPr>
          <a:xfrm>
            <a:off x="1979640" y="3355920"/>
            <a:ext cx="4829040" cy="86508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формирования резервов материальных ресурсов (запасов) в целях экстренного привлечения необходимых средств в случае возникновения чрезвычайных ситуаций муниципального характера и в целях гражданской обороны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Скругленный прямоугольник 41"/>
          <p:cNvSpPr/>
          <p:nvPr/>
        </p:nvSpPr>
        <p:spPr>
          <a:xfrm>
            <a:off x="1979640" y="4248000"/>
            <a:ext cx="4829040" cy="8636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быстрого реагирования и улучшение взаимодействия экстренных оперативных служб в экстренных ситуациях с помощью Системы вызова экстренных оперативных служб по единому номеру "112"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Скругленный прямоугольник 42"/>
          <p:cNvSpPr/>
          <p:nvPr/>
        </p:nvSpPr>
        <p:spPr>
          <a:xfrm>
            <a:off x="1979640" y="5160960"/>
            <a:ext cx="4829040" cy="6858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оповещения и информирования населения об опасностях, возникающих при чрезвычайных ситуациях природного и техногенного характера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Скругленный прямоугольник 44"/>
          <p:cNvSpPr/>
          <p:nvPr/>
        </p:nvSpPr>
        <p:spPr>
          <a:xfrm>
            <a:off x="1971720" y="5894280"/>
            <a:ext cx="4829040" cy="9637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>
                <a:solidFill>
                  <a:srgbClr val="00ff00"/>
                </a:solidFill>
                <a:latin typeface="Calibri"/>
                <a:ea typeface="Times New Roman"/>
              </a:rPr>
              <a:t>Повышение уровня навыков применения правил поведения, способам защиты и действиям в ЧС, правилам пользования коллективными и индивидуальными средствами защиты при подготовке населения в области гражданской обороны и защиты населения путем обучения, повышения квалификации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Скругленный прямоугольник 45"/>
          <p:cNvSpPr/>
          <p:nvPr/>
        </p:nvSpPr>
        <p:spPr>
          <a:xfrm>
            <a:off x="6880320" y="3425760"/>
            <a:ext cx="2144520" cy="3324240"/>
          </a:xfrm>
          <a:custGeom>
            <a:avLst/>
            <a:gdLst>
              <a:gd name="textAreaLeft" fmla="*/ 0 w 2144520"/>
              <a:gd name="textAreaRight" fmla="*/ 2144880 w 21445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3480">
                <a:moveTo>
                  <a:pt x="0" y="0"/>
                </a:moveTo>
                <a:arcTo wR="0" hR="0" stAng="16200000" swAng="-5400000"/>
                <a:lnTo>
                  <a:pt x="0" y="33480"/>
                </a:lnTo>
                <a:arcTo wR="0" hR="0" stAng="10800000" swAng="-5400000"/>
                <a:lnTo>
                  <a:pt x="21600" y="33480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Количество чрезвычайных ситуаций на территории Нефтеюганского район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EED0A88F-68A6-4457-89EE-48490FD5B0AE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52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защиты населения и объектов защиты от пожаров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66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70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Скругленный прямоугольник 40"/>
          <p:cNvSpPr/>
          <p:nvPr/>
        </p:nvSpPr>
        <p:spPr>
          <a:xfrm>
            <a:off x="1908000" y="3344760"/>
            <a:ext cx="5112000" cy="130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Усиление мер по организации и осуществлению профилактики пожаров, в том числе организация обучения населения мерам пожарной безопасности, агитация в социальных сетях, проведение профилактических бесед, лекций, экскурси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ожарной безопасности в населенных пун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Скругленный прямоугольник 45"/>
          <p:cNvSpPr/>
          <p:nvPr/>
        </p:nvSpPr>
        <p:spPr>
          <a:xfrm>
            <a:off x="7093080" y="3344760"/>
            <a:ext cx="2023920" cy="332424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75">
                <a:moveTo>
                  <a:pt x="0" y="0"/>
                </a:moveTo>
                <a:arcTo wR="0" hR="0" stAng="16200000" swAng="-5400000"/>
                <a:lnTo>
                  <a:pt x="0" y="35475"/>
                </a:lnTo>
                <a:arcTo wR="0" hR="0" stAng="10800000" swAng="-5400000"/>
                <a:lnTo>
                  <a:pt x="21600" y="3547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зарегистрированных пожаров на территории Нефтеюганского района 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Скругленный прямоугольник 41"/>
          <p:cNvSpPr/>
          <p:nvPr/>
        </p:nvSpPr>
        <p:spPr>
          <a:xfrm>
            <a:off x="1908000" y="4908600"/>
            <a:ext cx="5112000" cy="17604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авовой и социальной защиты личного состава добровольной пожарной охраны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снащение подразделений добровольной пожарной охраны пожарной техникой, пожарно-техническим вооружением, аварийно-спасательным инструментом, средствами защиты и вещевым имущество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беспечение профессионального обучения личного состава добровольной пожарной охраны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CAB0F3E9-70FD-40DC-B030-6840ADD4FAFB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177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79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TextBox 2"/>
          <p:cNvSpPr/>
          <p:nvPr/>
        </p:nvSpPr>
        <p:spPr>
          <a:xfrm>
            <a:off x="174600" y="2806560"/>
            <a:ext cx="872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Обеспечение безопасности людей в местах отдыха на водных объектах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2"/>
          <p:cNvSpPr/>
          <p:nvPr/>
        </p:nvSpPr>
        <p:spPr>
          <a:xfrm>
            <a:off x="179280" y="1512720"/>
            <a:ext cx="8845560" cy="687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Организация и обеспечение мероприятий в сфере гражданской обороны, защиты населения и территории Нефтеюганского района от чрезвычайных ситуаций, укрепление пожарной безопасности и обеспечение безопасности граждан в местах массового отдыха на водных объектах в Нефтеюганском районе». 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Прямоугольник 23"/>
          <p:cNvSpPr/>
          <p:nvPr/>
        </p:nvSpPr>
        <p:spPr>
          <a:xfrm>
            <a:off x="576360" y="2268360"/>
            <a:ext cx="2352600" cy="557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Овал 25"/>
          <p:cNvSpPr/>
          <p:nvPr/>
        </p:nvSpPr>
        <p:spPr>
          <a:xfrm>
            <a:off x="250920" y="2276640"/>
            <a:ext cx="541080" cy="539640"/>
          </a:xfrm>
          <a:prstGeom prst="ellipse">
            <a:avLst/>
          </a:prstGeom>
          <a:solidFill>
            <a:srgbClr val="00b05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Рисунок 26" descr=""/>
          <p:cNvPicPr/>
          <p:nvPr/>
        </p:nvPicPr>
        <p:blipFill>
          <a:blip r:embed="rId2"/>
          <a:stretch/>
        </p:blipFill>
        <p:spPr>
          <a:xfrm>
            <a:off x="341280" y="2368440"/>
            <a:ext cx="363600" cy="3621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29"/>
          <p:cNvSpPr/>
          <p:nvPr/>
        </p:nvSpPr>
        <p:spPr>
          <a:xfrm>
            <a:off x="759960" y="2403360"/>
            <a:ext cx="214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труктурный элемен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30"/>
          <p:cNvSpPr/>
          <p:nvPr/>
        </p:nvSpPr>
        <p:spPr>
          <a:xfrm>
            <a:off x="34920" y="692280"/>
            <a:ext cx="90820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627120" indent="-627120"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Повышение уровня защищенности населения, материальных и культурных ценностей от опасностей, возникающих при военных конфликтах или вследствие этих конфликтов, а также при чрезвычайных ситуациях, пожарах и происшествиях на водных объекта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Прямоугольник 31"/>
          <p:cNvSpPr/>
          <p:nvPr/>
        </p:nvSpPr>
        <p:spPr>
          <a:xfrm>
            <a:off x="3600360" y="2268360"/>
            <a:ext cx="2351160" cy="55728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32"/>
          <p:cNvSpPr/>
          <p:nvPr/>
        </p:nvSpPr>
        <p:spPr>
          <a:xfrm>
            <a:off x="4140360" y="237816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Направлени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Овал 33"/>
          <p:cNvSpPr/>
          <p:nvPr/>
        </p:nvSpPr>
        <p:spPr>
          <a:xfrm>
            <a:off x="3276720" y="2276640"/>
            <a:ext cx="539640" cy="539640"/>
          </a:xfrm>
          <a:prstGeom prst="ellipse">
            <a:avLst/>
          </a:prstGeom>
          <a:solidFill>
            <a:srgbClr val="bf9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Рисунок 34" descr=""/>
          <p:cNvPicPr/>
          <p:nvPr/>
        </p:nvPicPr>
        <p:blipFill>
          <a:blip r:embed="rId3"/>
          <a:stretch/>
        </p:blipFill>
        <p:spPr>
          <a:xfrm>
            <a:off x="3348000" y="2335320"/>
            <a:ext cx="388800" cy="38880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35"/>
          <p:cNvSpPr/>
          <p:nvPr/>
        </p:nvSpPr>
        <p:spPr>
          <a:xfrm>
            <a:off x="6465960" y="2268360"/>
            <a:ext cx="2376360" cy="557280"/>
          </a:xfrm>
          <a:prstGeom prst="rect">
            <a:avLst/>
          </a:prstGeom>
          <a:solidFill>
            <a:srgbClr val="944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Прямоугольник 36"/>
          <p:cNvSpPr/>
          <p:nvPr/>
        </p:nvSpPr>
        <p:spPr>
          <a:xfrm>
            <a:off x="6739560" y="2408400"/>
            <a:ext cx="215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вязь с показателям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Овал 37"/>
          <p:cNvSpPr/>
          <p:nvPr/>
        </p:nvSpPr>
        <p:spPr>
          <a:xfrm>
            <a:off x="6227640" y="2276640"/>
            <a:ext cx="540000" cy="539640"/>
          </a:xfrm>
          <a:prstGeom prst="ellipse">
            <a:avLst/>
          </a:prstGeom>
          <a:solidFill>
            <a:srgbClr val="944d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Рисунок 38" descr=""/>
          <p:cNvPicPr/>
          <p:nvPr/>
        </p:nvPicPr>
        <p:blipFill>
          <a:blip r:embed="rId4"/>
          <a:stretch/>
        </p:blipFill>
        <p:spPr>
          <a:xfrm>
            <a:off x="6281640" y="2365200"/>
            <a:ext cx="451080" cy="411480"/>
          </a:xfrm>
          <a:prstGeom prst="rect">
            <a:avLst/>
          </a:prstGeom>
          <a:ln w="0">
            <a:noFill/>
          </a:ln>
        </p:spPr>
      </p:pic>
      <p:sp>
        <p:nvSpPr>
          <p:cNvPr id="195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пожарной безопасности и безопасности людей на водных объектах в Нефтеюганском райо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Скругленный прямоугольник 40"/>
          <p:cNvSpPr/>
          <p:nvPr/>
        </p:nvSpPr>
        <p:spPr>
          <a:xfrm>
            <a:off x="1903320" y="3344760"/>
            <a:ext cx="511200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Развитие системы защищенности населения и обеспечения безопасности в местах отдыха на водных объектах Нефтеюганского район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Скругленный прямоугольник 27"/>
          <p:cNvSpPr/>
          <p:nvPr/>
        </p:nvSpPr>
        <p:spPr>
          <a:xfrm>
            <a:off x="1892160" y="4421160"/>
            <a:ext cx="5113440" cy="123984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пляжей, обозначение границ купания ограждающими буйкам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Проведение очистки дна акватории пляж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спасательных постов с плавсредствами, оборудованием, снаряжением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Скругленный прямоугольник 41"/>
          <p:cNvSpPr/>
          <p:nvPr/>
        </p:nvSpPr>
        <p:spPr>
          <a:xfrm>
            <a:off x="1903320" y="5904000"/>
            <a:ext cx="5112000" cy="7650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спасателе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Организация дежурства медицинского персонал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Скругленный прямоугольник 45"/>
          <p:cNvSpPr/>
          <p:nvPr/>
        </p:nvSpPr>
        <p:spPr>
          <a:xfrm>
            <a:off x="7083360" y="3344760"/>
            <a:ext cx="2025720" cy="3324240"/>
          </a:xfrm>
          <a:custGeom>
            <a:avLst/>
            <a:gdLst>
              <a:gd name="textAreaLeft" fmla="*/ 0 w 2025720"/>
              <a:gd name="textAreaRight" fmla="*/ 2026080 w 202572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5443">
                <a:moveTo>
                  <a:pt x="0" y="0"/>
                </a:moveTo>
                <a:arcTo wR="0" hR="0" stAng="16200000" swAng="-5400000"/>
                <a:lnTo>
                  <a:pt x="0" y="35443"/>
                </a:lnTo>
                <a:arcTo wR="0" hR="0" stAng="10800000" swAng="-5400000"/>
                <a:lnTo>
                  <a:pt x="21600" y="3544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Снижение количества происшествий на водных объектах (по отношению к плановому значению показателя 2019 года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B289EB7-2292-4472-9AEF-EB934E6DF8A7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03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05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6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10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2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17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21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Скругленный прямоугольник 40"/>
          <p:cNvSpPr/>
          <p:nvPr/>
        </p:nvSpPr>
        <p:spPr>
          <a:xfrm>
            <a:off x="1903320" y="3457440"/>
            <a:ext cx="5092920" cy="7923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Создание и совершенствование условий для деятельности народных дружин приведет к снижению уровня преступности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в том числе на улицах и в общественных местах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Скругленный прямоугольник 27"/>
          <p:cNvSpPr/>
          <p:nvPr/>
        </p:nvSpPr>
        <p:spPr>
          <a:xfrm>
            <a:off x="1903320" y="4606920"/>
            <a:ext cx="5092920" cy="868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правовой и социальной защиты личного состава 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Материально-техническое обеспечение деятельност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народных дружин</a:t>
            </a: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Скругленный прямоугольник 41"/>
          <p:cNvSpPr/>
          <p:nvPr/>
        </p:nvSpPr>
        <p:spPr>
          <a:xfrm>
            <a:off x="1906560" y="5808600"/>
            <a:ext cx="5089680" cy="76356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  <a:ea typeface="Times New Roman"/>
              </a:rPr>
              <a:t>Материальное стимулирование, личное страхование народных дружинников, участвующих в охране общественного порядк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Скругленный прямоугольник 45"/>
          <p:cNvSpPr/>
          <p:nvPr/>
        </p:nvSpPr>
        <p:spPr>
          <a:xfrm>
            <a:off x="7045200" y="3344760"/>
            <a:ext cx="2073240" cy="3324240"/>
          </a:xfrm>
          <a:custGeom>
            <a:avLst/>
            <a:gdLst>
              <a:gd name="textAreaLeft" fmla="*/ 0 w 2073240"/>
              <a:gd name="textAreaRight" fmla="*/ 2073600 w 207324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31">
                <a:moveTo>
                  <a:pt x="0" y="0"/>
                </a:moveTo>
                <a:arcTo wR="0" hR="0" stAng="16200000" swAng="-5400000"/>
                <a:lnTo>
                  <a:pt x="0" y="34631"/>
                </a:lnTo>
                <a:arcTo wR="0" hR="0" stAng="10800000" swAng="-5400000"/>
                <a:lnTo>
                  <a:pt x="21600" y="34631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36D25BF-5537-49C9-A507-F1843AAAB199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30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2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TextBox 2"/>
          <p:cNvSpPr/>
          <p:nvPr/>
        </p:nvSpPr>
        <p:spPr>
          <a:xfrm>
            <a:off x="147600" y="2662200"/>
            <a:ext cx="87282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рофилактика правонарушений и обеспечение защиты прав потребителей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37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39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4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8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Скругленный прямоугольник 27"/>
          <p:cNvSpPr/>
          <p:nvPr/>
        </p:nvSpPr>
        <p:spPr>
          <a:xfrm>
            <a:off x="1917720" y="3875040"/>
            <a:ext cx="5045040" cy="222732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Повышение уровня правовой грамотности населения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беспечение деятельности административной комиссии Нефтеюганского район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Определение перечня должностных лиц органов местного самоуправления, уполномоченных составлять протоколы об административных правонарушения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Реализации государственных полномочий по составлению (изменению и дополнению) списков кандидатов в присяжные заседатели федеральных судов общей юрисдикции в Российской Федераци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Заголовок 1"/>
          <p:cNvSpPr/>
          <p:nvPr/>
        </p:nvSpPr>
        <p:spPr>
          <a:xfrm>
            <a:off x="34920" y="1771560"/>
            <a:ext cx="3657600" cy="17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Oval 6"/>
          <p:cNvSpPr/>
          <p:nvPr/>
        </p:nvSpPr>
        <p:spPr>
          <a:xfrm>
            <a:off x="8756640" y="0"/>
            <a:ext cx="360360" cy="270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20C0D78-2763-4ED4-BE42-4A62E1F04F4A}" type="slidenum"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Группа 22"/>
          <p:cNvGrpSpPr/>
          <p:nvPr/>
        </p:nvGrpSpPr>
        <p:grpSpPr>
          <a:xfrm>
            <a:off x="0" y="0"/>
            <a:ext cx="9144000" cy="824040"/>
            <a:chOff x="0" y="0"/>
            <a:chExt cx="9144000" cy="824040"/>
          </a:xfrm>
        </p:grpSpPr>
        <p:sp>
          <p:nvSpPr>
            <p:cNvPr id="255" name="Прямоугольник 15"/>
            <p:cNvSpPr/>
            <p:nvPr/>
          </p:nvSpPr>
          <p:spPr>
            <a:xfrm>
              <a:off x="0" y="0"/>
              <a:ext cx="9144000" cy="786240"/>
            </a:xfrm>
            <a:prstGeom prst="rect">
              <a:avLst/>
            </a:prstGeom>
            <a:solidFill>
              <a:srgbClr val="232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TextBox 17"/>
            <p:cNvSpPr/>
            <p:nvPr/>
          </p:nvSpPr>
          <p:spPr>
            <a:xfrm>
              <a:off x="949320" y="163440"/>
              <a:ext cx="4654440" cy="53568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1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ХАНТЫ-МАНСИЙСКИЙ АВТОНОМНЫЙ ОКРУГА – ЮГРА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Нефтеюганский муниципальный райо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7" name="Picture 6" descr="C:\Users\VShishkanov.ADMOIL\Downloads\герб.gif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642600" cy="82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2"/>
          <p:cNvSpPr/>
          <p:nvPr/>
        </p:nvSpPr>
        <p:spPr>
          <a:xfrm>
            <a:off x="147600" y="2662200"/>
            <a:ext cx="8728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дача: Повышение уровня правовой грамотности и формирование у населения навыков рационального потребительского поведения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Прямоугольник 2"/>
          <p:cNvSpPr/>
          <p:nvPr/>
        </p:nvSpPr>
        <p:spPr>
          <a:xfrm>
            <a:off x="154080" y="1171440"/>
            <a:ext cx="8845560" cy="489960"/>
          </a:xfrm>
          <a:prstGeom prst="rect">
            <a:avLst/>
          </a:prstGeom>
          <a:noFill/>
          <a:ln w="31680">
            <a:solidFill>
              <a:srgbClr val="ef11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3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Направление (подпрограмма) «Профилактика правонарушений, незаконного оборота и потребления наркотических средств и психотропных веществ»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30"/>
          <p:cNvSpPr/>
          <p:nvPr/>
        </p:nvSpPr>
        <p:spPr>
          <a:xfrm>
            <a:off x="34920" y="746280"/>
            <a:ext cx="908208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ель: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</a:t>
            </a:r>
            <a:r>
              <a:rPr b="1" i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ие уровня преступ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Группа 1"/>
          <p:cNvGrpSpPr/>
          <p:nvPr/>
        </p:nvGrpSpPr>
        <p:grpSpPr>
          <a:xfrm>
            <a:off x="284040" y="1916280"/>
            <a:ext cx="8645040" cy="556920"/>
            <a:chOff x="284040" y="1916280"/>
            <a:chExt cx="8645040" cy="556920"/>
          </a:xfrm>
        </p:grpSpPr>
        <p:sp>
          <p:nvSpPr>
            <p:cNvPr id="262" name="Прямоугольник 23"/>
            <p:cNvSpPr/>
            <p:nvPr/>
          </p:nvSpPr>
          <p:spPr>
            <a:xfrm>
              <a:off x="607680" y="1916280"/>
              <a:ext cx="2352600" cy="556920"/>
            </a:xfrm>
            <a:prstGeom prst="rect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Овал 25"/>
            <p:cNvSpPr/>
            <p:nvPr/>
          </p:nvSpPr>
          <p:spPr>
            <a:xfrm>
              <a:off x="284040" y="1925640"/>
              <a:ext cx="539640" cy="538200"/>
            </a:xfrm>
            <a:prstGeom prst="ellipse">
              <a:avLst/>
            </a:prstGeom>
            <a:solidFill>
              <a:srgbClr val="00b05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Рисунок 26" descr=""/>
            <p:cNvPicPr/>
            <p:nvPr/>
          </p:nvPicPr>
          <p:blipFill>
            <a:blip r:embed="rId2"/>
            <a:stretch/>
          </p:blipFill>
          <p:spPr>
            <a:xfrm>
              <a:off x="374400" y="2015640"/>
              <a:ext cx="36324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Прямоугольник 29"/>
            <p:cNvSpPr/>
            <p:nvPr/>
          </p:nvSpPr>
          <p:spPr>
            <a:xfrm>
              <a:off x="792360" y="2051640"/>
              <a:ext cx="214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труктурный элемент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Прямоугольник 31"/>
            <p:cNvSpPr/>
            <p:nvPr/>
          </p:nvSpPr>
          <p:spPr>
            <a:xfrm>
              <a:off x="3632040" y="1916280"/>
              <a:ext cx="2351160" cy="556920"/>
            </a:xfrm>
            <a:prstGeom prst="rect">
              <a:avLst/>
            </a:prstGeom>
            <a:solidFill>
              <a:srgbClr val="bf9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Прямоугольник 32"/>
            <p:cNvSpPr/>
            <p:nvPr/>
          </p:nvSpPr>
          <p:spPr>
            <a:xfrm>
              <a:off x="4172400" y="2025720"/>
              <a:ext cx="143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Направление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Овал 33"/>
            <p:cNvSpPr/>
            <p:nvPr/>
          </p:nvSpPr>
          <p:spPr>
            <a:xfrm>
              <a:off x="3308040" y="1925640"/>
              <a:ext cx="539640" cy="538200"/>
            </a:xfrm>
            <a:prstGeom prst="ellipse">
              <a:avLst/>
            </a:prstGeom>
            <a:solidFill>
              <a:srgbClr val="bf9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9" name="Рисунок 34" descr=""/>
            <p:cNvPicPr/>
            <p:nvPr/>
          </p:nvPicPr>
          <p:blipFill>
            <a:blip r:embed="rId3"/>
            <a:stretch/>
          </p:blipFill>
          <p:spPr>
            <a:xfrm>
              <a:off x="3380400" y="1982880"/>
              <a:ext cx="389160" cy="38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Прямоугольник 35"/>
            <p:cNvSpPr/>
            <p:nvPr/>
          </p:nvSpPr>
          <p:spPr>
            <a:xfrm>
              <a:off x="6499080" y="1916280"/>
              <a:ext cx="2374920" cy="556920"/>
            </a:xfrm>
            <a:prstGeom prst="rect">
              <a:avLst/>
            </a:prstGeom>
            <a:solidFill>
              <a:srgbClr val="944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Прямоугольник 36"/>
            <p:cNvSpPr/>
            <p:nvPr/>
          </p:nvSpPr>
          <p:spPr>
            <a:xfrm>
              <a:off x="6771600" y="2055600"/>
              <a:ext cx="215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r>
                <a:rPr b="1" lang="ru-RU" sz="1400" spc="-1" strike="noStrike">
                  <a:solidFill>
                    <a:srgbClr val="ffffff"/>
                  </a:solidFill>
                  <a:latin typeface="Arial"/>
                </a:rPr>
                <a:t>Связь с показателям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Овал 37"/>
            <p:cNvSpPr/>
            <p:nvPr/>
          </p:nvSpPr>
          <p:spPr>
            <a:xfrm>
              <a:off x="6261120" y="1925640"/>
              <a:ext cx="539640" cy="538200"/>
            </a:xfrm>
            <a:prstGeom prst="ellipse">
              <a:avLst/>
            </a:prstGeom>
            <a:solidFill>
              <a:srgbClr val="944d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1160"/>
                  <a:tab algn="l" pos="1822320"/>
                  <a:tab algn="l" pos="2733840"/>
                  <a:tab algn="l" pos="3645000"/>
                  <a:tab algn="l" pos="4556160"/>
                  <a:tab algn="l" pos="5467320"/>
                  <a:tab algn="l" pos="6378480"/>
                  <a:tab algn="l" pos="7289640"/>
                  <a:tab algn="l" pos="8201160"/>
                  <a:tab algn="l" pos="9112320"/>
                  <a:tab algn="l" pos="10023480"/>
                  <a:tab algn="l" pos="109346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73" name="Рисунок 38" descr=""/>
            <p:cNvPicPr/>
            <p:nvPr/>
          </p:nvPicPr>
          <p:blipFill>
            <a:blip r:embed="rId4"/>
            <a:stretch/>
          </p:blipFill>
          <p:spPr>
            <a:xfrm>
              <a:off x="6314400" y="2013120"/>
              <a:ext cx="450720" cy="41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4" name="Скругленный прямоугольник 39"/>
          <p:cNvSpPr/>
          <p:nvPr/>
        </p:nvSpPr>
        <p:spPr>
          <a:xfrm>
            <a:off x="34920" y="3344760"/>
            <a:ext cx="1800360" cy="3324240"/>
          </a:xfrm>
          <a:custGeom>
            <a:avLst/>
            <a:gdLst>
              <a:gd name="textAreaLeft" fmla="*/ 0 w 1800360"/>
              <a:gd name="textAreaRight" fmla="*/ 1800720 w 180036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9879">
                <a:moveTo>
                  <a:pt x="0" y="0"/>
                </a:moveTo>
                <a:arcTo wR="0" hR="0" stAng="16200000" swAng="-5400000"/>
                <a:lnTo>
                  <a:pt x="0" y="39879"/>
                </a:lnTo>
                <a:arcTo wR="0" hR="0" stAng="10800000" swAng="-5400000"/>
                <a:lnTo>
                  <a:pt x="21600" y="3987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Обеспечение общественного порядка, в том числе с участием граждан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Скругленный прямоугольник 27"/>
          <p:cNvSpPr/>
          <p:nvPr/>
        </p:nvSpPr>
        <p:spPr>
          <a:xfrm>
            <a:off x="1917720" y="4411800"/>
            <a:ext cx="5045040" cy="1425600"/>
          </a:xfrm>
          <a:prstGeom prst="roundRect">
            <a:avLst>
              <a:gd name="adj" fmla="val 0"/>
            </a:avLst>
          </a:pr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400" spc="-1" strike="noStrike">
                <a:solidFill>
                  <a:srgbClr val="00ff00"/>
                </a:solidFill>
                <a:latin typeface="Calibri"/>
              </a:rPr>
              <a:t>Доля потребительских споров, разрешенных в досудебном и внесудебном порядке, в общем количестве споров с участием потребителей составит менее 10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Скругленный прямоугольник 45"/>
          <p:cNvSpPr/>
          <p:nvPr/>
        </p:nvSpPr>
        <p:spPr>
          <a:xfrm>
            <a:off x="7045200" y="3344760"/>
            <a:ext cx="2071800" cy="3324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21600" h="34655">
                <a:moveTo>
                  <a:pt x="0" y="0"/>
                </a:moveTo>
                <a:arcTo wR="0" hR="0" stAng="16200000" swAng="-5400000"/>
                <a:lnTo>
                  <a:pt x="0" y="34655"/>
                </a:lnTo>
                <a:arcTo wR="0" hR="0" stAng="10800000" swAng="-5400000"/>
                <a:lnTo>
                  <a:pt x="21600" y="3465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>
              <a:alpha val="47000"/>
            </a:srgbClr>
          </a:solidFill>
          <a:ln w="38160">
            <a:solidFill>
              <a:srgbClr val="3030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600" spc="-1" strike="noStrike">
                <a:solidFill>
                  <a:srgbClr val="00ff00"/>
                </a:solidFill>
                <a:latin typeface="Calibri"/>
              </a:rPr>
              <a:t>Уровень преступности (число зарегистрированных преступлений на 100 тыс. человек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Главный специалист - Лукин Сергей Васильевич</dc:creator>
  <dc:description/>
  <dc:language>en-US</dc:language>
  <cp:lastModifiedBy>Сычёв Александр Михайлович</cp:lastModifiedBy>
  <cp:lastPrinted>2014-03-05T07:57:00Z</cp:lastPrinted>
  <dcterms:modified xsi:type="dcterms:W3CDTF">2024-12-09T08:39:45Z</dcterms:modified>
  <cp:revision>634</cp:revision>
  <dc:subject/>
  <dc:title>Слайд 1</dc:title>
</cp:coreProperties>
</file>