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4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2D5F1-04BC-4E31-BD89-D5A272CE87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E971B4-D279-457D-BE20-A2E73E9651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03F0C2-E27A-4175-9DA8-C6480E4A2B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D44-9614-43FA-9DEA-988781929FA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9AF4244A-474B-4E94-8CB0-F583B01DD489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3:5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F19-7EB3-4F9E-A021-6C2760DE3C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CEC84A-DB50-4B88-A483-89E4BEC67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1C21648-231F-450C-B8EC-9E1D8F3BE3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744A8E-7135-43C4-8AC8-582863BE67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90FB42-C77F-4833-9884-D1CCE753AE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CC9478-0079-4BF8-A675-FD6E10BD49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B876C1-9C22-481F-9741-84480815CF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68AB7D-6F52-4D09-B817-97F0D940A5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104F102-A4BE-4DB1-A5DB-2145DF537C5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1476360" y="134784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необходимого уровня безопасности жизнедеятельности, уровня защищенности населения и территории Нефтеюганского района, материальных и культурных ценностей от опасностей, возникающих при военных конфликтах, чрезвычайных ситуациях и при пож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27160" y="1347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89000" y="263376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714680" y="2500200"/>
            <a:ext cx="7000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вершенствование защиты населения, материальных и культурных ценностей от опасностей, возникающих при военных конфликтах и чрезвычайных ситуациях, включая обеспечение необходимого уровня готовности систем управления, связи, информирования и оповещения, а также сил и средств, предназначенных для предупреждения и ликвидации чрезвычайных ситу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еспечение необходимого уровня защищенности населения и объектов защиты от пожаров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img_sistema_112_700_390"/>
          <p:cNvPicPr/>
          <p:nvPr/>
        </p:nvPicPr>
        <p:blipFill>
          <a:blip r:embed="rId2"/>
          <a:stretch/>
        </p:blipFill>
        <p:spPr>
          <a:xfrm>
            <a:off x="165240" y="4578480"/>
            <a:ext cx="1535040" cy="259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kit.volganet.ru/upload/iblock/93e/foto-29.07.2015_1.jpeg"/>
          <p:cNvPicPr/>
          <p:nvPr/>
        </p:nvPicPr>
        <p:blipFill>
          <a:blip r:embed="rId3"/>
          <a:stretch/>
        </p:blipFill>
        <p:spPr>
          <a:xfrm>
            <a:off x="195120" y="3071880"/>
            <a:ext cx="153684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3882238-9F13-43C3-B40C-CF65F832F55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Прямоугольник 18"/>
          <p:cNvSpPr/>
          <p:nvPr/>
        </p:nvSpPr>
        <p:spPr>
          <a:xfrm>
            <a:off x="1547640" y="619452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673200" y="17924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00" y="270828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665360" y="310824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2ED08D-6C92-48B4-88F4-2AE238E858C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3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0" descr="260120171042.jpg"/>
          <p:cNvPicPr/>
          <p:nvPr/>
        </p:nvPicPr>
        <p:blipFill>
          <a:blip r:embed="rId1"/>
          <a:stretch/>
        </p:blipFill>
        <p:spPr>
          <a:xfrm>
            <a:off x="6645240" y="560520"/>
            <a:ext cx="2876760" cy="16650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71424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20746A7-4232-4076-867A-B47BC9FDEEA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657600" y="1017720"/>
            <a:ext cx="3129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714840" y="17859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3643200" y="2071800"/>
            <a:ext cx="3159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2920" y="3429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42920" y="3857760"/>
            <a:ext cx="34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929040" y="3714840"/>
            <a:ext cx="507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Предупреждение 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603080"/>
                <a:gridCol w="1986120"/>
              </a:tblGrid>
              <a:tr h="38736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5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 008,38330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3 424,71337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29" name="Стрелка вправо 5"/>
          <p:cNvGrpSpPr/>
          <p:nvPr/>
        </p:nvGrpSpPr>
        <p:grpSpPr>
          <a:xfrm>
            <a:off x="3419640" y="3889440"/>
            <a:ext cx="585720" cy="712800"/>
            <a:chOff x="3419640" y="3889440"/>
            <a:chExt cx="585720" cy="712800"/>
          </a:xfrm>
        </p:grpSpPr>
        <p:pic>
          <p:nvPicPr>
            <p:cNvPr id="130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3419640" y="3889440"/>
              <a:ext cx="585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500280" y="4068720"/>
              <a:ext cx="3207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трелка вниз 6"/>
          <p:cNvGrpSpPr/>
          <p:nvPr/>
        </p:nvGrpSpPr>
        <p:grpSpPr>
          <a:xfrm>
            <a:off x="7564320" y="4602240"/>
            <a:ext cx="720720" cy="446040"/>
            <a:chOff x="7564320" y="4602240"/>
            <a:chExt cx="720720" cy="446040"/>
          </a:xfrm>
        </p:grpSpPr>
        <p:pic>
          <p:nvPicPr>
            <p:cNvPr id="133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7564320" y="4602240"/>
              <a:ext cx="72072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83560" y="4643280"/>
              <a:ext cx="280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трелка углом вверх 8"/>
          <p:cNvGrpSpPr/>
          <p:nvPr/>
        </p:nvGrpSpPr>
        <p:grpSpPr>
          <a:xfrm>
            <a:off x="865080" y="4664160"/>
            <a:ext cx="1414440" cy="1730160"/>
            <a:chOff x="865080" y="4664160"/>
            <a:chExt cx="1414440" cy="1730160"/>
          </a:xfrm>
        </p:grpSpPr>
        <p:pic>
          <p:nvPicPr>
            <p:cNvPr id="136" name="Стрелка углом вверх 8" descr=""/>
            <p:cNvPicPr/>
            <p:nvPr/>
          </p:nvPicPr>
          <p:blipFill>
            <a:blip r:embed="rId5"/>
            <a:stretch/>
          </p:blipFill>
          <p:spPr>
            <a:xfrm>
              <a:off x="865080" y="4664160"/>
              <a:ext cx="141444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5400000">
              <a:off x="412200" y="5252760"/>
              <a:ext cx="1387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Рисунок 1" descr=""/>
          <p:cNvPicPr/>
          <p:nvPr/>
        </p:nvPicPr>
        <p:blipFill>
          <a:blip r:embed="rId6"/>
          <a:srcRect l="19206" t="26325" r="3407" b="10215"/>
          <a:stretch/>
        </p:blipFill>
        <p:spPr>
          <a:xfrm>
            <a:off x="6858000" y="1836720"/>
            <a:ext cx="2233440" cy="10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3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6859440" y="2952720"/>
            <a:ext cx="228456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060323-9118-4CFF-8390-4F2AE324554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112"/>
          <p:cNvPicPr/>
          <p:nvPr/>
        </p:nvPicPr>
        <p:blipFill>
          <a:blip r:embed="rId1"/>
          <a:stretch/>
        </p:blipFill>
        <p:spPr>
          <a:xfrm>
            <a:off x="6620040" y="1639800"/>
            <a:ext cx="2877840" cy="16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6613560" y="596880"/>
            <a:ext cx="28782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4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18"/>
          <p:cNvSpPr/>
          <p:nvPr/>
        </p:nvSpPr>
        <p:spPr>
          <a:xfrm>
            <a:off x="3643200" y="78588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657600" y="105084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7"/>
          <p:cNvSpPr/>
          <p:nvPr/>
        </p:nvSpPr>
        <p:spPr>
          <a:xfrm>
            <a:off x="142920" y="350028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142920" y="4000680"/>
            <a:ext cx="32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3857760" y="3714840"/>
            <a:ext cx="52862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Обеспечение  деятельности муниципального казенного учреждения "Единая дежурно-диспетчерская служба Нефтеюганского района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95640" y="4932360"/>
          <a:ext cx="6921360" cy="1901880"/>
        </p:xfrm>
        <a:graphic>
          <a:graphicData uri="http://schemas.openxmlformats.org/drawingml/2006/table">
            <a:tbl>
              <a:tblPr/>
              <a:tblGrid>
                <a:gridCol w="1368360"/>
                <a:gridCol w="1977840"/>
                <a:gridCol w="1406520"/>
                <a:gridCol w="216864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223,37429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3 539,2169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54" name="Стрелка вправо 31"/>
          <p:cNvGrpSpPr/>
          <p:nvPr/>
        </p:nvGrpSpPr>
        <p:grpSpPr>
          <a:xfrm>
            <a:off x="3279600" y="4029120"/>
            <a:ext cx="659160" cy="718920"/>
            <a:chOff x="3279600" y="4029120"/>
            <a:chExt cx="659160" cy="718920"/>
          </a:xfrm>
        </p:grpSpPr>
        <p:pic>
          <p:nvPicPr>
            <p:cNvPr id="155" name="Стрелка вправо 31" descr=""/>
            <p:cNvPicPr/>
            <p:nvPr/>
          </p:nvPicPr>
          <p:blipFill>
            <a:blip r:embed="rId4"/>
            <a:stretch/>
          </p:blipFill>
          <p:spPr>
            <a:xfrm>
              <a:off x="3279600" y="4029120"/>
              <a:ext cx="659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357720" y="4211640"/>
              <a:ext cx="3744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Стрелка вниз 32"/>
          <p:cNvGrpSpPr/>
          <p:nvPr/>
        </p:nvGrpSpPr>
        <p:grpSpPr>
          <a:xfrm>
            <a:off x="7589880" y="4529160"/>
            <a:ext cx="718920" cy="585720"/>
            <a:chOff x="7589880" y="4529160"/>
            <a:chExt cx="718920" cy="585720"/>
          </a:xfrm>
        </p:grpSpPr>
        <p:pic>
          <p:nvPicPr>
            <p:cNvPr id="158" name="Стрелка вниз 32" descr=""/>
            <p:cNvPicPr/>
            <p:nvPr/>
          </p:nvPicPr>
          <p:blipFill>
            <a:blip r:embed="rId5"/>
            <a:stretch/>
          </p:blipFill>
          <p:spPr>
            <a:xfrm>
              <a:off x="7589880" y="4529160"/>
              <a:ext cx="7189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07320" y="457200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Стрелка углом вверх 33"/>
          <p:cNvGrpSpPr/>
          <p:nvPr/>
        </p:nvGrpSpPr>
        <p:grpSpPr>
          <a:xfrm>
            <a:off x="865080" y="4950000"/>
            <a:ext cx="1414440" cy="1444320"/>
            <a:chOff x="865080" y="4950000"/>
            <a:chExt cx="1414440" cy="1444320"/>
          </a:xfrm>
        </p:grpSpPr>
        <p:pic>
          <p:nvPicPr>
            <p:cNvPr id="161" name="Стрелка углом вверх 33" descr=""/>
            <p:cNvPicPr/>
            <p:nvPr/>
          </p:nvPicPr>
          <p:blipFill>
            <a:blip r:embed="rId6"/>
            <a:stretch/>
          </p:blipFill>
          <p:spPr>
            <a:xfrm>
              <a:off x="865080" y="4950000"/>
              <a:ext cx="141444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5400000">
              <a:off x="555120" y="5395680"/>
              <a:ext cx="1101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1" descr="C:\Users\Sychevam\Desktop\КЧС и ОПБ\2019 год\УМС\DSCN0488.JPG"/>
          <p:cNvPicPr/>
          <p:nvPr/>
        </p:nvPicPr>
        <p:blipFill>
          <a:blip r:embed="rId7"/>
          <a:srcRect l="18074" t="22415" r="45728" b="42635"/>
          <a:stretch/>
        </p:blipFill>
        <p:spPr>
          <a:xfrm>
            <a:off x="6840360" y="2952720"/>
            <a:ext cx="226728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репление пожарной безопасности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237B9BC-A356-4D59-90F2-4E0FF554091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6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3714840" y="100008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3714840" y="20001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714840" y="2286000"/>
            <a:ext cx="315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“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тсрации городского и сельских поселений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0" y="35002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3857760"/>
            <a:ext cx="314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зарегистрированных пожаров на объектах защиты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747960" y="3929040"/>
            <a:ext cx="53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Обеспечение пожарной безопасности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465200"/>
                <a:gridCol w="212400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4 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78" name="Стрелка вправо 29"/>
          <p:cNvGrpSpPr/>
          <p:nvPr/>
        </p:nvGrpSpPr>
        <p:grpSpPr>
          <a:xfrm>
            <a:off x="2992320" y="4029120"/>
            <a:ext cx="847800" cy="718920"/>
            <a:chOff x="2992320" y="4029120"/>
            <a:chExt cx="847800" cy="718920"/>
          </a:xfrm>
        </p:grpSpPr>
        <p:pic>
          <p:nvPicPr>
            <p:cNvPr id="179" name="Стрелка вправо 29" descr=""/>
            <p:cNvPicPr/>
            <p:nvPr/>
          </p:nvPicPr>
          <p:blipFill>
            <a:blip r:embed="rId2"/>
            <a:stretch/>
          </p:blipFill>
          <p:spPr>
            <a:xfrm>
              <a:off x="2992320" y="4029120"/>
              <a:ext cx="8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071880" y="4211640"/>
              <a:ext cx="547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Стрелка вниз 30"/>
          <p:cNvGrpSpPr/>
          <p:nvPr/>
        </p:nvGrpSpPr>
        <p:grpSpPr>
          <a:xfrm>
            <a:off x="7564320" y="4456080"/>
            <a:ext cx="720720" cy="585720"/>
            <a:chOff x="7564320" y="4456080"/>
            <a:chExt cx="720720" cy="585720"/>
          </a:xfrm>
        </p:grpSpPr>
        <p:pic>
          <p:nvPicPr>
            <p:cNvPr id="182" name="Стрелка вниз 30" descr=""/>
            <p:cNvPicPr/>
            <p:nvPr/>
          </p:nvPicPr>
          <p:blipFill>
            <a:blip r:embed="rId3"/>
            <a:stretch/>
          </p:blipFill>
          <p:spPr>
            <a:xfrm>
              <a:off x="7564320" y="4456080"/>
              <a:ext cx="720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783560" y="4500720"/>
              <a:ext cx="28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трелка углом вверх 31"/>
          <p:cNvGrpSpPr/>
          <p:nvPr/>
        </p:nvGrpSpPr>
        <p:grpSpPr>
          <a:xfrm>
            <a:off x="841320" y="4950000"/>
            <a:ext cx="1414440" cy="1658880"/>
            <a:chOff x="841320" y="4950000"/>
            <a:chExt cx="1414440" cy="1658880"/>
          </a:xfrm>
        </p:grpSpPr>
        <p:pic>
          <p:nvPicPr>
            <p:cNvPr id="185" name="Стрелка углом вверх 31" descr=""/>
            <p:cNvPicPr/>
            <p:nvPr/>
          </p:nvPicPr>
          <p:blipFill>
            <a:blip r:embed="rId4"/>
            <a:stretch/>
          </p:blipFill>
          <p:spPr>
            <a:xfrm>
              <a:off x="841320" y="4950000"/>
              <a:ext cx="14144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5400000">
              <a:off x="426960" y="5502240"/>
              <a:ext cx="13143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17" descr="C:\Users\Sychevam\Desktop\Муниципальные программы\1. МП 11 Защита населения 2019-2024 до 2030\2019\Проект изменения на 2019 год\IMG_20190802_120856.jpg"/>
          <p:cNvPicPr/>
          <p:nvPr/>
        </p:nvPicPr>
        <p:blipFill>
          <a:blip r:embed="rId5"/>
          <a:srcRect l="17467" t="22184" r="14690" b="37331"/>
          <a:stretch/>
        </p:blipFill>
        <p:spPr>
          <a:xfrm>
            <a:off x="6935760" y="3168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8" name="Picture 18" descr="C:\Users\Sychevam\Desktop\Муниципальные программы\1. МП 11 Защита населения 2019-2024 до 2030\2019\Проект изменения на 2019 год\IMG_20171211_125222.jpg"/>
          <p:cNvPicPr/>
          <p:nvPr/>
        </p:nvPicPr>
        <p:blipFill>
          <a:blip r:embed="rId6"/>
          <a:srcRect l="0" t="28516" r="0" b="0"/>
          <a:stretch/>
        </p:blipFill>
        <p:spPr>
          <a:xfrm>
            <a:off x="6935760" y="2052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9" name="Рисунок 22" descr="C:\Users\gu192\Desktop\Доклад НГУ внедрение приоритетных направлений\Памятка по извещателям 2.jpg"/>
          <p:cNvPicPr/>
          <p:nvPr/>
        </p:nvPicPr>
        <p:blipFill>
          <a:blip r:embed="rId7"/>
          <a:stretch/>
        </p:blipFill>
        <p:spPr>
          <a:xfrm>
            <a:off x="6929280" y="755640"/>
            <a:ext cx="2214720" cy="124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2BE3FB-23D0-46D7-BD3A-2DDB7B0DDF7F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9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91960" y="1116000"/>
            <a:ext cx="3600720" cy="916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 на период до 2030 г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6 963,93031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Стрелка вправо 25"/>
          <p:cNvGrpSpPr/>
          <p:nvPr/>
        </p:nvGrpSpPr>
        <p:grpSpPr>
          <a:xfrm>
            <a:off x="4280040" y="1292400"/>
            <a:ext cx="1255680" cy="585720"/>
            <a:chOff x="4280040" y="1292400"/>
            <a:chExt cx="1255680" cy="585720"/>
          </a:xfrm>
        </p:grpSpPr>
        <p:pic>
          <p:nvPicPr>
            <p:cNvPr id="198" name="Стрелка вправо 25" descr=""/>
            <p:cNvPicPr/>
            <p:nvPr/>
          </p:nvPicPr>
          <p:blipFill>
            <a:blip r:embed="rId3"/>
            <a:stretch/>
          </p:blipFill>
          <p:spPr>
            <a:xfrm>
              <a:off x="4280040" y="1292400"/>
              <a:ext cx="1255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356000" y="1440000"/>
              <a:ext cx="99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Box 28"/>
          <p:cNvSpPr/>
          <p:nvPr/>
        </p:nvSpPr>
        <p:spPr>
          <a:xfrm>
            <a:off x="5235480" y="1187280"/>
            <a:ext cx="360072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 231,75759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4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5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22880" y="1116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н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Диаграмма 18"/>
          <p:cNvGraphicFramePr/>
          <p:nvPr/>
        </p:nvGraphicFramePr>
        <p:xfrm>
          <a:off x="511200" y="1930320"/>
          <a:ext cx="8045280" cy="45388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5" name="Диаграмма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200" y="1930320"/>
                    <a:ext cx="8045280" cy="45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06-21T04:15:35Z</dcterms:modified>
  <cp:revision>547</cp:revision>
  <dc:subject/>
  <dc:title>Слайд 1</dc:title>
</cp:coreProperties>
</file>