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5BB-1F88-4D3D-9707-030CF7B9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49F1-FB17-4120-A8F7-C970AF4D8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BF18-8B55-4F68-A265-60ADF5A82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B553-7709-4DDD-AAEB-C98BC4A94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971D-4FDB-4D36-9422-3DA17FC0B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1DD-63D8-4B93-BEF9-4244974E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592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3E6-4431-4562-A9FB-6AC5F8B3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B2C-0416-423F-94D3-565CD684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901-DA1C-4478-8EB3-8A7E1B93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D239-0A9D-427D-B811-C8C02EC8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694-0FA5-4EDB-82FA-F8FBD04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0137-9C76-4806-A95B-B60E6526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21A1-6C67-4B7C-B3B7-BAC1F7D4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B564-AFD6-4B41-8F3C-26E3B71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8920"/>
            <a:ext cx="8686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F5D1-CDDD-473A-9ACD-0E6EB538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7037-6835-4879-9428-57576928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EF1-3374-4F06-ACA0-5DFFA249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52E8-C751-4F97-9628-9C81970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7D6A-4ADF-4DFA-836E-3BAF1CA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0592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0CDC-C650-4A58-A399-60EBBBF6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8124-9A2B-4A93-907E-1A355E15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05920"/>
            <a:ext cx="279684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D771-40FB-43E2-B52B-D1ADA52A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E39-0A99-46FE-996D-AF7E9AA8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DAF-8B5C-45B8-BEFE-7C2C701C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56E-2FE7-4AC0-AE62-0F635A16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8920"/>
            <a:ext cx="868680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665-CE6E-400C-AE68-064FF45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234-37A0-4A59-AC2A-25C10C31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0592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823-CB76-449E-8DF5-0FE5EF0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5920"/>
            <a:ext cx="8686800" cy="24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7CD-5BE9-4AC0-8A5F-F447743B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8AC8-A0A1-4B96-B741-799F19E0B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E46-3D2F-4B16-9543-BF1827F3E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3124080"/>
            <a:ext cx="8828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чет о ходе реализаци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ниципальной программы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357120" y="4038480"/>
            <a:ext cx="8686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звитие транспортной системы Нефтеюганского района на 2019-2024 годы и на период до 2030  год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extBox 6" descr=""/>
          <p:cNvPicPr/>
          <p:nvPr/>
        </p:nvPicPr>
        <p:blipFill>
          <a:blip r:embed="rId1"/>
          <a:stretch/>
        </p:blipFill>
        <p:spPr>
          <a:xfrm>
            <a:off x="1146240" y="85680"/>
            <a:ext cx="7491240" cy="2054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rahmatulinaei\Desktop\Исходящие\Лого без  слогана.png"/>
          <p:cNvPicPr/>
          <p:nvPr/>
        </p:nvPicPr>
        <p:blipFill>
          <a:blip r:embed="rId2"/>
          <a:stretch/>
        </p:blipFill>
        <p:spPr>
          <a:xfrm>
            <a:off x="152280" y="157320"/>
            <a:ext cx="1573200" cy="120636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Прямоугольник 1"/>
          <p:cNvSpPr/>
          <p:nvPr/>
        </p:nvSpPr>
        <p:spPr>
          <a:xfrm>
            <a:off x="0" y="5791320"/>
            <a:ext cx="2971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ор департамента строительства и жилищно - коммунального комплекса Нефтеюганского района - заместитель главы район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_______________  В.С.Коша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986440" y="-36360"/>
            <a:ext cx="2554200" cy="3790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35053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современной транспортной инфраструктуры, обеспечивающей повышение доступности и безопасности транспортных услуг для населения Нефтеюганского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ышение уровня правового воспитания участников дорожного движения, культуры их поведения, профилактика детского дорожно - транспортного травматизма в рай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57200" y="298440"/>
            <a:ext cx="5662440" cy="1378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P7200288"/>
          <p:cNvPicPr/>
          <p:nvPr/>
        </p:nvPicPr>
        <p:blipFill>
          <a:blip r:embed="rId1"/>
          <a:stretch/>
        </p:blipFill>
        <p:spPr>
          <a:xfrm>
            <a:off x="-19080" y="1133640"/>
            <a:ext cx="3292560" cy="495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971440" y="129492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е доступности и повышение качества транспортных услуг, оказываемых автомобильным транспо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е функционирования сети автомобильных дорог общего пользования местного значения, в том числе автомобильных дорог, являющихся подъездами к сельским населенным пункт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упреждение опасного поведения детей дошкольного и школьного возраста; формирование у детей навыков безопасного поведения на дорогах; снижение детского дорожно­-транспортного травматизма и пропаганда безопасности дорожного дв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40840"/>
            <a:ext cx="86868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чи муниципальной програм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480"/>
            <a:ext cx="8686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е мероприятия муниципальной програм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программа 1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втомобильный транспорт и дорожное хозяй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1.1. Обеспечение повышения качества  и доступности транспортных услуг, оказываемых с использованием автомобильного транспорт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1.2. Капитальный ремонт, ремонт и содержание  автомобильных дорог  и искусственных дорожных сооружений общего пользования местного значения муниципального район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1.3. Строительство, реконструкция, капитальный ремонт, ремонт и содержание автомобильных дорог общего пользования местного значения поселени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программа 2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Формирование законопослушного поведения участников дорожного дви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2.1. Реализация мероприятий профилактического и агитационного характера, направленных на предупреждение детского дорожно-транспортного  травматизм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2.2. Укрепление материально-технической базы для организации профилактической работы по предупреждению детского дорожно-транспортного травматизм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бъём финансирования на 2021 год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25772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лановое значение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13 209,45479  тысяч 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Объект 7" descr=""/>
          <p:cNvPicPr/>
          <p:nvPr/>
        </p:nvPicPr>
        <p:blipFill>
          <a:blip r:embed="rId1"/>
          <a:stretch/>
        </p:blipFill>
        <p:spPr>
          <a:xfrm>
            <a:off x="231840" y="2120760"/>
            <a:ext cx="4035240" cy="3975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523520"/>
            <a:ext cx="39654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ическое значен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12 410,11244 тысяч 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Объект 8" descr=""/>
          <p:cNvPicPr/>
          <p:nvPr/>
        </p:nvPicPr>
        <p:blipFill>
          <a:blip r:embed="rId2"/>
          <a:stretch/>
        </p:blipFill>
        <p:spPr>
          <a:xfrm>
            <a:off x="4645080" y="2163600"/>
            <a:ext cx="4041720" cy="3975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8440"/>
            <a:ext cx="8686800" cy="24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сполнение расходных обязательств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 2021год </a:t>
            </a:r>
            <a:br>
              <a:rPr sz="28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плана по исполнению финансовых показателей   муниципальной программы  составило  99,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Нижний колонтитул 3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Объект 7" descr=""/>
          <p:cNvPicPr/>
          <p:nvPr/>
        </p:nvPicPr>
        <p:blipFill>
          <a:blip r:embed="rId1"/>
          <a:stretch/>
        </p:blipFill>
        <p:spPr>
          <a:xfrm>
            <a:off x="536400" y="2200320"/>
            <a:ext cx="7540920" cy="4048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полнение целевых показателей за 2020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40402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лановый показ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219320"/>
            <a:ext cx="4267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. Износ парка автобусов организаций автомобильного транспорта, осуществляющих перевозки пассажиров 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57,4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. Объём пассажирских перевозок автомобильным транспортом в муниципальном сообщении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34,9 тыс. чел.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3. Протяженность сети автомобильных дорог общего пользования местного значения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174,8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4. Общая протяжённость автомобильных дорог общего пользования местного значения, не соответствующих нормативным требованиям к транспортно-эксплуатационным показателям на 31 декабря отчётного года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9,3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5. Прирост протяжённости автомобильных дорог общего пользования местного значения, соответствующих нормативным требованиям к транспортно-эксплуатационным показателям, в результате капитального ремонта и ремонта автомобильных дорог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5,1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6. Доля автомобильных дорог общего пользования местного значения, соответствующих нормативным требованиям к транспортно-эксплуатационным показателям, в общей протяжённости автомобильных дорог общего пользования местного значения  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94,7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7. Доля учащихся (воспитанников), задействованных в мероприятиях по профилактике ДТП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100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762120"/>
            <a:ext cx="40417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актически исполн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24280" y="12189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1. Износ парка автобусов организаций автомобильного транспорта, осуществляющих перевозки пассажиров 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57,4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. Объём пассажирских перевозок автомобильным транспортом в муниципальном сообщении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34,9 тыс. чел.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3. Протяженность сети автомобильных дорог общего пользования местного значения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176,2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4. Общая протяжённость автомобильных дорог общего пользования местного значения, не соответствующих нормативным требованиям к транспортно-эксплуатационным показателям на 31 декабря отчётного года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9,3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5. Прирост протяжённости автомобильных дорог общего пользования местного значения, соответствующих нормативным требованиям к транспортно-эксплуатационным показателям, в результате капитального ремонта и ремонта автомобильных дорог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5,5 к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6. Доля автомобильных дорог общего пользования местного значения, соответствующих нормативным требованиям к транспортно-эксплуатационным показателям, в общей протяжённости автомобильных дорог общего пользования местного значения  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94,7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7. Доля учащихся (воспитанников), задействованных в мероприятиях по профилактике ДТП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100%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ветственный исполнитель     муниципа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1920" y="1219320"/>
            <a:ext cx="8836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партамент строительства и жилищно-коммунального комплекса Нефтеюг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дел по транспорту и дорог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225360" y="2438280"/>
            <a:ext cx="8763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исполнители муниципальной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1680" y="34290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партамент имущественных отнош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ниципальное казенное учреждение «Управление капитального строительства и жилищно-коммунального комплекса Нефтеюганского район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ции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партамент образования и молодёжной политик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>Василевская Марина Борисовна</dc:creator>
  <dc:description/>
  <dc:language>en-US</dc:language>
  <cp:lastModifiedBy>Рахматулина Эльвира Искандаровна</cp:lastModifiedBy>
  <dcterms:modified xsi:type="dcterms:W3CDTF">2022-01-21T13:10:17Z</dcterms:modified>
  <cp:revision>195</cp:revision>
  <dc:subject/>
  <dc:title>Презентация PowerPoint</dc:title>
</cp:coreProperties>
</file>