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3.png" ContentType="image/png"/>
  <Override PartName="/ppt/media/image7.png" ContentType="image/png"/>
  <Override PartName="/ppt/media/image3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1.jpeg" ContentType="image/jpeg"/>
  <Override PartName="/ppt/media/image10.png" ContentType="image/png"/>
  <Override PartName="/ppt/media/image27.jpeg" ContentType="image/jpeg"/>
  <Override PartName="/ppt/media/image14.png" ContentType="image/png"/>
  <Override PartName="/ppt/media/image15.png" ContentType="image/png"/>
  <Override PartName="/ppt/media/image22.png" ContentType="image/png"/>
  <Override PartName="/ppt/media/image24.jpeg" ContentType="image/jpe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AD6F0-7EAB-4253-A240-03CB9D48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0B2EF-D64F-4D19-9DFD-A68A8B0E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250-765A-4582-8F60-79A3FA600F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F1697-29E3-49CA-B369-91CFDF06C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80BF-C0CC-45A8-B719-5A7F61E81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D357A-42DF-4FA8-9B5B-F24092F70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3179C-FE70-4214-9ADD-149FCB0D0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DB7F7-6041-4A5B-98A9-240646284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B9EE-874B-4A41-A057-4391228B2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8616-6D60-4D81-9D2C-0F05554FA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C9F60-FB41-44D3-9E4D-E7E6571F5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8C256-58A6-4D1A-856E-0489D0930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915AA-0B4D-4293-9646-E12A5E6A6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B89F1-63DE-4178-B661-2AB2FAD1F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8AB7E-56C2-4827-9AB5-C10F6832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BEF90-4AD9-491C-B801-72DFC197C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152CB-73C3-4551-82A0-521890190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B3C8AB-1311-4A6B-80D5-AA444F821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B3A4A-DBE6-4750-86AF-ECD4778CE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14729-CEAA-4EC6-92FA-AD359F4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429108-580D-465B-A622-549F382F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539801-5DC1-45CA-B0CC-3BA7AD7B2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67AF-715D-4054-8510-8DB1099E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F93A3-D75B-48D4-82F3-AF20CB16B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A1C15-889B-4080-8C1F-A5E801667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52074-4E8E-4138-B2BE-A842145D0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E8E5F6-9B40-4BB7-A45A-F1FF441FA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A4B46-875C-4EB1-9F02-6AA9720C8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E0D0B5-570F-4FFC-B467-342233098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871914-6DE2-41B7-8EF8-647C2FCFB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6A562-AEE4-46F7-9CDB-919EE3212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96D9FC-2A12-44FF-89DC-7DE6AE1F9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06E844-65D0-4327-966B-79CCC1B76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B1DCA-6BDD-4849-BDE1-3CE9B1EF4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834F11-3D63-4604-8088-18C8EAA21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713657-39B0-4835-8495-96E49CEC7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ED476-6074-4096-A22B-AB3FBDDB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5DE4C2-4E7C-4B23-A614-51F8FE55B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C2EC33-CE0A-49E4-9A09-B5ACECE5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E54006-53C9-4E83-8312-281C5EC8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E60FED-49D5-489C-99B7-7CB1E1FA1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E9113-D17B-4389-BDE2-6E8760D8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B4835-95A9-49C5-B5B0-BA3F1AF02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0424-354F-47D4-BB80-16FE11ABF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B720-8F45-4549-8EEB-88A977762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7A6A-51E6-4FC5-921F-CB687F35F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FA709-597A-4CFC-BEE4-14678780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53BF-4AC5-4C8F-8509-4358E366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AB9B0-D2CC-4D11-B686-E24E7E037AE5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64662-03B0-45D7-9647-EEBECC08A609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F5A89-397C-44DD-A866-7BB993568AA6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1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7f7f7f"/>
                </a:solidFill>
                <a:latin typeface="Trebuchet MS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200" spc="-1" strike="noStrike">
                <a:solidFill>
                  <a:srgbClr val="7f7f7f"/>
                </a:solidFill>
                <a:latin typeface="Trebuchet MS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35F-3BFC-4BCF-AA0D-217BAA012AC7}" type="slidenum">
              <a:rPr b="1" lang="ru-RU" sz="1200" spc="-1" strike="noStrike">
                <a:solidFill>
                  <a:srgbClr val="7f7f7f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21.png"/><Relationship Id="rId10" Type="http://schemas.openxmlformats.org/officeDocument/2006/relationships/image" Target="../media/image22.png"/><Relationship Id="rId11" Type="http://schemas.openxmlformats.org/officeDocument/2006/relationships/image" Target="../media/image23.pn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6.pn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27.jpeg"/><Relationship Id="rId9" Type="http://schemas.openxmlformats.org/officeDocument/2006/relationships/image" Target="../media/image28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grpSp>
        <p:nvGrpSpPr>
          <p:cNvPr id="215" name="Объект 4"/>
          <p:cNvGrpSpPr/>
          <p:nvPr/>
        </p:nvGrpSpPr>
        <p:grpSpPr>
          <a:xfrm>
            <a:off x="-133200" y="981000"/>
            <a:ext cx="9410400" cy="6005520"/>
            <a:chOff x="-133200" y="981000"/>
            <a:chExt cx="9410400" cy="6005520"/>
          </a:xfrm>
        </p:grpSpPr>
        <p:pic>
          <p:nvPicPr>
            <p:cNvPr id="216" name="Объект 4" descr=""/>
            <p:cNvPicPr/>
            <p:nvPr/>
          </p:nvPicPr>
          <p:blipFill>
            <a:blip r:embed="rId2"/>
            <a:stretch/>
          </p:blipFill>
          <p:spPr>
            <a:xfrm>
              <a:off x="-133200" y="981000"/>
              <a:ext cx="9410400" cy="600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108000" y="1224000"/>
              <a:ext cx="8928000" cy="551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228600" indent="-182520" algn="ctr">
                <a:spcBef>
                  <a:spcPts val="550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451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Муниципальная программа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Нефтеюганского района 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 algn="ctr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«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Обеспечение прав и законных интересов населения Нефтеюганского района в отдельных сферах жизнедеятельности в 2019-2024 годах и на период до 2030 года</a:t>
              </a:r>
              <a:r>
                <a:rPr b="1" lang="ru-RU" sz="3200" spc="-1" strike="noStrike">
                  <a:solidFill>
                    <a:srgbClr val="404040"/>
                  </a:solidFill>
                  <a:latin typeface="Times New Roman"/>
                  <a:ea typeface="Times New Roman"/>
                </a:rPr>
                <a:t>»</a:t>
              </a: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  <a:p>
              <a:pPr marL="228600" indent="-182520">
                <a:lnSpc>
                  <a:spcPct val="100000"/>
                </a:lnSpc>
                <a:spcBef>
                  <a:spcPts val="799"/>
                </a:spcBef>
                <a:spcAft>
                  <a:spcPts val="300"/>
                </a:spcAft>
                <a:buClr>
                  <a:srgbClr val="c3260c"/>
                </a:buClr>
                <a:buSzPct val="130000"/>
                <a:buFont typeface="Georgia"/>
                <a:buChar char="*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rebuchet MS"/>
              </a:endParaRPr>
            </a:p>
          </p:txBody>
        </p:sp>
      </p:grpSp>
      <p:pic>
        <p:nvPicPr>
          <p:cNvPr id="218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C:\Users\VShishkanov.ADMOIL\Downloads\герб.gif"/>
          <p:cNvPicPr/>
          <p:nvPr/>
        </p:nvPicPr>
        <p:blipFill>
          <a:blip r:embed="rId4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700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sp>
        <p:nvSpPr>
          <p:cNvPr id="283" name="Прямоугольник 1"/>
          <p:cNvSpPr/>
          <p:nvPr/>
        </p:nvSpPr>
        <p:spPr>
          <a:xfrm>
            <a:off x="108000" y="1700280"/>
            <a:ext cx="8964720" cy="452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rebuchet MS"/>
                <a:ea typeface="Arial"/>
              </a:rPr>
              <a:t>             </a:t>
            </a: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Благодаря активному участию граждан в охране общественного порядка и общественной безопасности стабильно сокращается преступность на улицах (-23,4%) и в общественных местах     (-11,9%). Улучшена криминогенная ситуация в жилом секторе (-2,1%), на уровне прошлого года совершено преступлений лицами в состоянии алкогольного опьянения (85), иностранцами (-80%), ранее судимыми (-31,4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уличных преступлений в числе зарегистрированных общеуголовных преступлений» - запланировано 19,6%, выполнено 6,7%. (АППГ – 7,5%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По результатам в 2021 году отмечено снижение совершенных преступлений (-0,6%, с 629 до 62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Снижение уровня преступности (число зарегистрированных преступлений на 100 тыс. человек населения) - запланировано 1465ед., выполнено1389 ед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членами народной дружины городского и сельских поселений Нефтеюганского района проведено 530 выходов на профилактические рейды и охрану общественного порядка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За 2021 год выявлено административных правонарушений – 178 (АППГ- 245)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404040"/>
                </a:solidFill>
                <a:latin typeface="Times New Roman"/>
                <a:ea typeface="Times New Roman"/>
              </a:rPr>
              <a:t>«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 – запланировано 2,8%, выполнено 6,6%.</a:t>
            </a:r>
            <a:endParaRPr b="0" lang="en-US" sz="16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9" descr="252"/>
          <p:cNvPicPr/>
          <p:nvPr/>
        </p:nvPicPr>
        <p:blipFill>
          <a:blip r:embed="rId4"/>
          <a:stretch/>
        </p:blipFill>
        <p:spPr>
          <a:xfrm>
            <a:off x="7643880" y="1071720"/>
            <a:ext cx="1295280" cy="12841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"/>
          <p:cNvPicPr/>
          <p:nvPr/>
        </p:nvPicPr>
        <p:blipFill>
          <a:blip r:embed="rId5"/>
          <a:stretch/>
        </p:blipFill>
        <p:spPr>
          <a:xfrm>
            <a:off x="142920" y="1428840"/>
            <a:ext cx="3143160" cy="5143320"/>
          </a:xfrm>
          <a:prstGeom prst="rect">
            <a:avLst/>
          </a:prstGeom>
          <a:ln w="0">
            <a:noFill/>
          </a:ln>
        </p:spPr>
      </p:pic>
      <p:sp>
        <p:nvSpPr>
          <p:cNvPr id="225" name="TextBox 8"/>
          <p:cNvSpPr/>
          <p:nvPr/>
        </p:nvSpPr>
        <p:spPr>
          <a:xfrm>
            <a:off x="3357720" y="1428840"/>
            <a:ext cx="428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ата утверждения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TextBox 9"/>
          <p:cNvSpPr/>
          <p:nvPr/>
        </p:nvSpPr>
        <p:spPr>
          <a:xfrm>
            <a:off x="3286080" y="2571840"/>
            <a:ext cx="585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и Нефтеюганского района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01.11.2016 № 1811-па-нпа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TextBox 4"/>
          <p:cNvSpPr/>
          <p:nvPr/>
        </p:nvSpPr>
        <p:spPr>
          <a:xfrm>
            <a:off x="3357720" y="4572000"/>
            <a:ext cx="556236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5160" rIns="65160" tIns="32760" bIns="32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роки реализации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ниципальной программы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9-2024 годы и на период до 2030 года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8" name="Oval 6"/>
          <p:cNvSpPr/>
          <p:nvPr/>
        </p:nvSpPr>
        <p:spPr>
          <a:xfrm>
            <a:off x="8758080" y="6572160"/>
            <a:ext cx="3621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050E290-297A-44F6-B608-2B7A99AB1CF7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32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96A9B3E-7F19-4C89-80D3-D2495498A030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3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34" name="TextBox 10"/>
          <p:cNvSpPr/>
          <p:nvPr/>
        </p:nvSpPr>
        <p:spPr>
          <a:xfrm>
            <a:off x="214200" y="165564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</a:t>
            </a:r>
            <a:r>
              <a:rPr b="1" lang="ru-RU" sz="2400" spc="-1" strike="noStrike">
                <a:solidFill>
                  <a:srgbClr val="595959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TextBox 11"/>
          <p:cNvSpPr/>
          <p:nvPr/>
        </p:nvSpPr>
        <p:spPr>
          <a:xfrm>
            <a:off x="1428840" y="1619280"/>
            <a:ext cx="728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ение уровня безопасности граждан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TextBox 13"/>
          <p:cNvSpPr/>
          <p:nvPr/>
        </p:nvSpPr>
        <p:spPr>
          <a:xfrm>
            <a:off x="1874880" y="2276640"/>
            <a:ext cx="6996240" cy="28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ение уровня безопасности граждан. Снижение уровня преступ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Рисунок 1" descr=""/>
          <p:cNvPicPr/>
          <p:nvPr/>
        </p:nvPicPr>
        <p:blipFill>
          <a:blip r:embed="rId5"/>
          <a:stretch/>
        </p:blipFill>
        <p:spPr>
          <a:xfrm>
            <a:off x="195120" y="2706840"/>
            <a:ext cx="1597320" cy="2358720"/>
          </a:xfrm>
          <a:prstGeom prst="rect">
            <a:avLst/>
          </a:prstGeom>
          <a:ln w="0">
            <a:noFill/>
          </a:ln>
        </p:spPr>
      </p:pic>
      <p:pic>
        <p:nvPicPr>
          <p:cNvPr id="238" name="Рисунок 14" descr=""/>
          <p:cNvPicPr/>
          <p:nvPr/>
        </p:nvPicPr>
        <p:blipFill>
          <a:blip r:embed="rId6"/>
          <a:stretch/>
        </p:blipFill>
        <p:spPr>
          <a:xfrm>
            <a:off x="201600" y="4078440"/>
            <a:ext cx="1596960" cy="2139840"/>
          </a:xfrm>
          <a:prstGeom prst="rect">
            <a:avLst/>
          </a:prstGeom>
          <a:ln w="0">
            <a:noFill/>
          </a:ln>
        </p:spPr>
      </p:pic>
      <p:sp>
        <p:nvSpPr>
          <p:cNvPr id="239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1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0" name="Рисунок 15" descr=""/>
          <p:cNvPicPr/>
          <p:nvPr/>
        </p:nvPicPr>
        <p:blipFill>
          <a:blip r:embed="rId7"/>
          <a:stretch/>
        </p:blipFill>
        <p:spPr>
          <a:xfrm>
            <a:off x="195120" y="5340240"/>
            <a:ext cx="1614600" cy="2127240"/>
          </a:xfrm>
          <a:prstGeom prst="rect">
            <a:avLst/>
          </a:prstGeom>
          <a:ln w="0">
            <a:noFill/>
          </a:ln>
        </p:spPr>
      </p:pic>
      <p:pic>
        <p:nvPicPr>
          <p:cNvPr id="241" name="Рисунок 16" descr=""/>
          <p:cNvPicPr/>
          <p:nvPr/>
        </p:nvPicPr>
        <p:blipFill>
          <a:blip r:embed="rId8"/>
          <a:stretch/>
        </p:blipFill>
        <p:spPr>
          <a:xfrm>
            <a:off x="2023920" y="4449600"/>
            <a:ext cx="1401840" cy="2043360"/>
          </a:xfrm>
          <a:prstGeom prst="rect">
            <a:avLst/>
          </a:prstGeom>
          <a:ln w="0">
            <a:noFill/>
          </a:ln>
        </p:spPr>
      </p:pic>
      <p:pic>
        <p:nvPicPr>
          <p:cNvPr id="242" name="Рисунок 17" descr=""/>
          <p:cNvPicPr/>
          <p:nvPr/>
        </p:nvPicPr>
        <p:blipFill>
          <a:blip r:embed="rId9"/>
          <a:stretch/>
        </p:blipFill>
        <p:spPr>
          <a:xfrm>
            <a:off x="3602160" y="4449600"/>
            <a:ext cx="1420560" cy="2043360"/>
          </a:xfrm>
          <a:prstGeom prst="rect">
            <a:avLst/>
          </a:prstGeom>
          <a:ln w="0">
            <a:noFill/>
          </a:ln>
        </p:spPr>
      </p:pic>
      <p:pic>
        <p:nvPicPr>
          <p:cNvPr id="243" name="Рисунок 18" descr=""/>
          <p:cNvPicPr/>
          <p:nvPr/>
        </p:nvPicPr>
        <p:blipFill>
          <a:blip r:embed="rId10"/>
          <a:stretch/>
        </p:blipFill>
        <p:spPr>
          <a:xfrm>
            <a:off x="5340240" y="4449600"/>
            <a:ext cx="1573200" cy="20433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" descr=""/>
          <p:cNvPicPr/>
          <p:nvPr/>
        </p:nvPicPr>
        <p:blipFill>
          <a:blip r:embed="rId11"/>
          <a:stretch/>
        </p:blipFill>
        <p:spPr>
          <a:xfrm>
            <a:off x="7248600" y="4449600"/>
            <a:ext cx="1523880" cy="20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-38160" y="-55440"/>
            <a:ext cx="965160" cy="1236600"/>
          </a:xfrm>
          <a:prstGeom prst="rect">
            <a:avLst/>
          </a:prstGeom>
          <a:ln w="0">
            <a:noFill/>
          </a:ln>
        </p:spPr>
      </p:pic>
      <p:sp>
        <p:nvSpPr>
          <p:cNvPr id="24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E80A520-6F7B-4EEC-976C-C38D2AA4BEBA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9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23800"/>
          </a:xfrm>
          <a:prstGeom prst="rect">
            <a:avLst/>
          </a:prstGeom>
          <a:ln w="0">
            <a:noFill/>
          </a:ln>
        </p:spPr>
      </p:pic>
      <p:sp>
        <p:nvSpPr>
          <p:cNvPr id="250" name="TextBox 13"/>
          <p:cNvSpPr/>
          <p:nvPr/>
        </p:nvSpPr>
        <p:spPr>
          <a:xfrm>
            <a:off x="1874880" y="2276640"/>
            <a:ext cx="6996240" cy="29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</a:r>
            <a:endParaRPr b="0" lang="en-US" sz="28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176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TextBox 12"/>
          <p:cNvSpPr/>
          <p:nvPr/>
        </p:nvSpPr>
        <p:spPr>
          <a:xfrm>
            <a:off x="233280" y="219564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а 2:</a:t>
            </a:r>
            <a:endParaRPr b="0" lang="en-US" sz="2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Picture 4" descr="https://avatars.mds.yandex.net/get-zen_doc/100325/pub_5d10ad6895065500b1716fbe_5d10ad7c278e6f00af96bd46/scale_1200"/>
          <p:cNvPicPr/>
          <p:nvPr/>
        </p:nvPicPr>
        <p:blipFill>
          <a:blip r:embed="rId5"/>
          <a:stretch/>
        </p:blipFill>
        <p:spPr>
          <a:xfrm>
            <a:off x="243000" y="2698920"/>
            <a:ext cx="1536480" cy="11062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8" descr="http://sch206.minsk.edu.by/sm.aspx?guid=20393"/>
          <p:cNvPicPr/>
          <p:nvPr/>
        </p:nvPicPr>
        <p:blipFill>
          <a:blip r:embed="rId6"/>
          <a:stretch/>
        </p:blipFill>
        <p:spPr>
          <a:xfrm>
            <a:off x="243000" y="4006800"/>
            <a:ext cx="1536480" cy="1114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12" descr="http://vechorka.ru/media/photos/55/55235.jpg"/>
          <p:cNvPicPr/>
          <p:nvPr/>
        </p:nvPicPr>
        <p:blipFill>
          <a:blip r:embed="rId7"/>
          <a:stretch/>
        </p:blipFill>
        <p:spPr>
          <a:xfrm>
            <a:off x="233280" y="5322960"/>
            <a:ext cx="1546200" cy="11304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6" descr="https://mkpale.ru/wp-content/uploads/2020/06/26-%D0%B8%D1%8E%D0%BD%D1%8F-2-2048x653.jpg"/>
          <p:cNvPicPr/>
          <p:nvPr/>
        </p:nvPicPr>
        <p:blipFill>
          <a:blip r:embed="rId8"/>
          <a:stretch/>
        </p:blipFill>
        <p:spPr>
          <a:xfrm>
            <a:off x="1973160" y="4356000"/>
            <a:ext cx="5149800" cy="209736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8" descr="https://aleks-lib.vld.muzkult.ru/media/2019/05/15/1261782315/n-3.gif"/>
          <p:cNvPicPr/>
          <p:nvPr/>
        </p:nvPicPr>
        <p:blipFill>
          <a:blip r:embed="rId9"/>
          <a:stretch/>
        </p:blipFill>
        <p:spPr>
          <a:xfrm>
            <a:off x="7223040" y="4467240"/>
            <a:ext cx="1782720" cy="18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Заголовок 3" descr=""/>
          <p:cNvPicPr/>
          <p:nvPr/>
        </p:nvPicPr>
        <p:blipFill>
          <a:blip r:embed="rId1"/>
          <a:stretch/>
        </p:blipFill>
        <p:spPr>
          <a:xfrm>
            <a:off x="0" y="-42840"/>
            <a:ext cx="9144000" cy="118908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sp>
        <p:nvSpPr>
          <p:cNvPr id="260" name="TextBox 6"/>
          <p:cNvSpPr/>
          <p:nvPr/>
        </p:nvSpPr>
        <p:spPr>
          <a:xfrm>
            <a:off x="179280" y="1916280"/>
            <a:ext cx="714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тветственный исполнитель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61" name="Заголовок 1" descr=""/>
          <p:cNvPicPr/>
          <p:nvPr/>
        </p:nvPicPr>
        <p:blipFill>
          <a:blip r:embed="rId4"/>
          <a:stretch/>
        </p:blipFill>
        <p:spPr>
          <a:xfrm>
            <a:off x="0" y="1073160"/>
            <a:ext cx="9144000" cy="50004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936720" y="2421000"/>
            <a:ext cx="79293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министрация Нефтеюганского района (комитет гражданской защиты населения Нефтеюганского района)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3" name="TextBox 9"/>
          <p:cNvSpPr/>
          <p:nvPr/>
        </p:nvSpPr>
        <p:spPr>
          <a:xfrm>
            <a:off x="179280" y="3284640"/>
            <a:ext cx="55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исполнители муниципальной программы:</a:t>
            </a:r>
            <a:endParaRPr b="0" lang="en-US" sz="2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4" name="TextBox 10"/>
          <p:cNvSpPr/>
          <p:nvPr/>
        </p:nvSpPr>
        <p:spPr>
          <a:xfrm>
            <a:off x="324000" y="3774960"/>
            <a:ext cx="8613720" cy="26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Структурные подразделения администрации Нефтеюганского района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административная комиссия;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юридический комитет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отдел по делам несовершеннолетних, защите их прав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МКУ «Управление по делам администрации Нефтеюганского района»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Администрации городского и сельских поселений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Департамент образования и молодежной политики Нефтеюганского района.</a:t>
            </a:r>
            <a:endParaRPr b="0" lang="en-US" sz="19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65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2926DE5F-E873-440F-A56C-DB9A536D71F4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7619DA61-2E90-46A4-85A1-15C0AB0ADA70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7" name=""/>
          <p:cNvGraphicFramePr/>
          <p:nvPr/>
        </p:nvGraphicFramePr>
        <p:xfrm>
          <a:off x="108000" y="133200"/>
          <a:ext cx="8928000" cy="6535800"/>
        </p:xfrm>
        <a:graphic>
          <a:graphicData uri="http://schemas.openxmlformats.org/drawingml/2006/table">
            <a:tbl>
              <a:tblPr/>
              <a:tblGrid>
                <a:gridCol w="1060560"/>
                <a:gridCol w="1512720"/>
                <a:gridCol w="1060560"/>
                <a:gridCol w="934920"/>
                <a:gridCol w="934920"/>
                <a:gridCol w="846360"/>
                <a:gridCol w="744480"/>
                <a:gridCol w="1833480"/>
              </a:tblGrid>
              <a:tr h="248760"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мероприяти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точники финансирова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ъём финансирования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тыс. рублей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ыполнение плана,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%</a:t>
                      </a:r>
                      <a:br>
                        <a:rPr sz="800"/>
                      </a:b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(гр. 5 / гр. 4 * 100)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имеча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61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ое значение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6840"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7080">
                <a:tc gridSpan="8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1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здание условий для деятельности народных дружин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9,8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9,8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выплаты материального стимулирования членов народных дружин, страхование жизни и здоровья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2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авовое просвещение и правовое информирование населения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4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rowSpan="7"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3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, направленных на профилактику правонарушений несовершеннолетних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0,0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040" rIns="5040" tIns="504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8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040" marR="50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AD6DCD5-42CF-4E3B-959B-0C2C39702B90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08000" y="0"/>
          <a:ext cx="8785080" cy="6684840"/>
        </p:xfrm>
        <a:graphic>
          <a:graphicData uri="http://schemas.openxmlformats.org/drawingml/2006/table">
            <a:tbl>
              <a:tblPr/>
              <a:tblGrid>
                <a:gridCol w="1042920"/>
                <a:gridCol w="1490760"/>
                <a:gridCol w="1042920"/>
                <a:gridCol w="919080"/>
                <a:gridCol w="920880"/>
                <a:gridCol w="831960"/>
                <a:gridCol w="731520"/>
                <a:gridCol w="1805040"/>
              </a:tblGrid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отдельных государственных полномочий по созданию административных комиссий и определению перечня должностных лиц органов местного самоуправления, уполномоченных составлять протоколы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б административных правонарушениях, предусмотренных пунктом 2 статьи 48 Закона Ханты-Мансийского автономного округа – Югры от 11 июня 2010 года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 102-оз «Об административных правонарушениях.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93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93,6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енежные средства направлены на заработную плату (выплачены в полном объеме согласно отработанному времени), а также на услуги связи (оплачены по факту выставленных счет-фактур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41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741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-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20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существление государственных полномочий по составлению (изменению и дополнению) списков кандидатов в присяжные заседатели федеральных судов общей юрисдикц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роведена рассылка уведомлений кандидатам в присяжные заседатели федеральных судов общей юрисдикции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8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рганизация и проведение мероприятий по профилактике незаконного потребления наркотических средств и психотропных веществ, наркомани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gridSpan="2"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 по программе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Всего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62,2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160,9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99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7"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 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едеральный бюджет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4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3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,1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8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Бюджет автономного округа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16,2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815,9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3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5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Местный бюджет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2,6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42,6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 Соглашениям по передаче полномочи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9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редства поселений 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4,9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,0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39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ные  источники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2160" rIns="2160" tIns="21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                          </a:t>
                      </a:r>
                      <a:r>
                        <a:rPr b="0" lang="ru-RU" sz="600" spc="-1" strike="noStrike">
                          <a:solidFill>
                            <a:srgbClr val="ff0000"/>
                          </a:solidFill>
                          <a:latin typeface="Trebuchet MS"/>
                        </a:rPr>
                        <a:t>-    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2160" marR="21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E:\мультики\герб мвд.jpg"/>
          <p:cNvPicPr/>
          <p:nvPr/>
        </p:nvPicPr>
        <p:blipFill>
          <a:blip r:embed="rId2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6" descr="C:\Users\VShishkanov.ADMOIL\Downloads\герб.gif"/>
          <p:cNvPicPr/>
          <p:nvPr/>
        </p:nvPicPr>
        <p:blipFill>
          <a:blip r:embed="rId3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73" name="Заголовок 1" descr=""/>
          <p:cNvPicPr/>
          <p:nvPr/>
        </p:nvPicPr>
        <p:blipFill>
          <a:blip r:embed="rId4"/>
          <a:stretch/>
        </p:blipFill>
        <p:spPr>
          <a:xfrm>
            <a:off x="0" y="1127160"/>
            <a:ext cx="9144000" cy="573120"/>
          </a:xfrm>
          <a:prstGeom prst="rect">
            <a:avLst/>
          </a:prstGeom>
          <a:ln w="0">
            <a:noFill/>
          </a:ln>
        </p:spPr>
      </p:pic>
      <p:sp>
        <p:nvSpPr>
          <p:cNvPr id="274" name="Oval 6"/>
          <p:cNvSpPr/>
          <p:nvPr/>
        </p:nvSpPr>
        <p:spPr>
          <a:xfrm>
            <a:off x="8783640" y="6588000"/>
            <a:ext cx="360360" cy="270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A2B701FA-CB02-4F9A-A7EF-BE87ED2353C5}" type="slidenum"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108000" y="1228680"/>
          <a:ext cx="8928000" cy="5492880"/>
        </p:xfrm>
        <a:graphic>
          <a:graphicData uri="http://schemas.openxmlformats.org/drawingml/2006/table">
            <a:tbl>
              <a:tblPr/>
              <a:tblGrid>
                <a:gridCol w="1098360"/>
                <a:gridCol w="2481480"/>
                <a:gridCol w="828720"/>
                <a:gridCol w="1331640"/>
                <a:gridCol w="1332000"/>
                <a:gridCol w="1163880"/>
                <a:gridCol w="691920"/>
              </a:tblGrid>
              <a:tr h="314280"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№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/п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Наименование целевых показателей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иница измерения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grid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Результат реализации программ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Абсолютное отклонение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(гр. 5 - гр. 4)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rowSpan="2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Оценка в баллах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лановый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показатель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фактически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сполнено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1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6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7</a:t>
                      </a:r>
                      <a:endParaRPr b="0" lang="en-US" sz="6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25380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1. Создание и совершенствование условий для обеспечения общественного порядка, в том числе с участием гражд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3692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административных правонарушений, посягающих на общественный порядок и общественную безопасность, выявленных с участием народных дружинников (глава 20 КоАП РФ), в общем количестве таких правонарушений</a:t>
                      </a:r>
                      <a:br>
                        <a:rPr sz="700"/>
                      </a:b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,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8222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Доля уличных преступлений в числе зарегистрированных общеуголовных преступлений*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,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6,7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2,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5224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3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уровня преступности (число зарегистрированных преступлений на 100 тыс. человек населения) 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ед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46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389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76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88920" y="1197000"/>
          <a:ext cx="8964720" cy="5472000"/>
        </p:xfrm>
        <a:graphic>
          <a:graphicData uri="http://schemas.openxmlformats.org/drawingml/2006/table">
            <a:tbl>
              <a:tblPr/>
              <a:tblGrid>
                <a:gridCol w="311040"/>
                <a:gridCol w="2824200"/>
                <a:gridCol w="944640"/>
                <a:gridCol w="1252440"/>
                <a:gridCol w="1517760"/>
                <a:gridCol w="1326960"/>
                <a:gridCol w="787680"/>
              </a:tblGrid>
              <a:tr h="65232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дача 2.  Создание условий для деятельности субъектов профилактики наркомании. Реализация профилактического комплекса мер в антинаркотической деятельности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3984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4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нижение распространенности наркомании (на 100 тыс. населения)***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чел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99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1,5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-148,5</a:t>
                      </a: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2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879560"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5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Сохранение доли обучающихся, прошедших социально-психологическое тестирование с целью раннего выявления незаконного потребления наркотических средств и психотропных веществ, в общем количестве обучающихся, %.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%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0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0,0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1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412920">
                <a:tc gridSpan="6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Итого сумма баллов: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760" rIns="5760" tIns="576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8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</a:tr>
              <a:tr h="1287360">
                <a:tc gridSpan="7">
                  <a:txBody>
                    <a:bodyPr lIns="5760" rIns="5760" tIns="576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 Снижение показателя имеет положительную динамику, т.к. это указывает на снижение общеуголовной уличной преступности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Снижение показателя имеет положительную динамику, т.к. это указывает на снижение уровня преступности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*** Снижение показателя имеет положительную динамику, т.к. это указывает на снижение распространенности наркомании                 </a:t>
                      </a:r>
                      <a:br>
                        <a:rPr sz="700"/>
                      </a:br>
                      <a:r>
                        <a:rPr b="0" lang="ru-RU" sz="700" spc="-1" strike="noStrike">
                          <a:solidFill>
                            <a:srgbClr val="000000"/>
                          </a:solidFill>
                          <a:latin typeface="Trebuchet MS"/>
                        </a:rPr>
                        <a:t>                                                                                                                </a:t>
                      </a:r>
                      <a:endParaRPr b="0" lang="en-US" sz="7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ctr" marL="5760" marR="5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bf5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Trebuchet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277" name="Заголовок 3" descr=""/>
          <p:cNvPicPr/>
          <p:nvPr/>
        </p:nvPicPr>
        <p:blipFill>
          <a:blip r:embed="rId1"/>
          <a:stretch/>
        </p:blipFill>
        <p:spPr>
          <a:xfrm>
            <a:off x="0" y="-60480"/>
            <a:ext cx="9144000" cy="118764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6" descr="C:\Users\VShishkanov.ADMOIL\Downloads\герб.gif"/>
          <p:cNvPicPr/>
          <p:nvPr/>
        </p:nvPicPr>
        <p:blipFill>
          <a:blip r:embed="rId2"/>
          <a:stretch/>
        </p:blipFill>
        <p:spPr>
          <a:xfrm>
            <a:off x="6480" y="0"/>
            <a:ext cx="876240" cy="112536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" descr="E:\мультики\герб мвд.jpg"/>
          <p:cNvPicPr/>
          <p:nvPr/>
        </p:nvPicPr>
        <p:blipFill>
          <a:blip r:embed="rId3"/>
          <a:stretch/>
        </p:blipFill>
        <p:spPr>
          <a:xfrm>
            <a:off x="7831080" y="0"/>
            <a:ext cx="131292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4-03T10:12:35Z</dcterms:created>
  <dc:creator>Белоус Вадим Петрович</dc:creator>
  <dc:description/>
  <dc:language>en-US</dc:language>
  <cp:lastModifiedBy>Белоус Вадим Петрович</cp:lastModifiedBy>
  <dcterms:modified xsi:type="dcterms:W3CDTF">2022-02-11T07:16:56Z</dcterms:modified>
  <cp:revision>45</cp:revision>
  <dc:subject/>
  <dc:title>Администрация Нефтеюганского района Ханты-Мансийский автономный округ - Югра</dc:title>
</cp:coreProperties>
</file>