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4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41134-0D5A-4E62-81CD-377F0357B1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C75D46-F268-47DF-9800-CBD1F4AF81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9B26EE-6990-4008-928B-BBFA9C1F07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2A2-91EA-46B7-AF9E-AE8ADC8EA5A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6FE7E63B-5CDF-4817-940F-E01B0395761A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8:44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45E0-F7AC-4CD1-A80C-5055DAF3AD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775746-EC7A-4A7B-BC8C-0A7D0BD927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DA6BBC9-E8A3-4111-9C77-C8045034AF8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67E323-1DD0-41F7-8D2C-9FF707248E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5683E8-CDA2-4728-AEA6-8443980F5A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FCA79-7FBE-4C05-AFE8-396C35A96A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2CC84A7-6CFC-49A7-B670-4046F666529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44747A-5DEF-4F14-8FEC-965B99550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690148-3BE5-463F-A964-2BE5E33507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1476360" y="134784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необходимого уровня безопасности жизнедеятельности, уровня защищенности населения и территории Нефтеюганского района, материальных и культурных ценностей от опасностей, возникающих при военных конфликтах, чрезвычайных ситуациях и при пож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27160" y="1347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89000" y="263376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714680" y="2500200"/>
            <a:ext cx="7000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вершенствование защиты населения, материальных и культурных ценностей от опасностей, возникающих при военных конфликтах и чрезвычайных ситуациях, включая обеспечение необходимого уровня готовности систем управления, связи, информирования и оповещения, а также сил и средств, предназначенных для предупреждения и ликвидации чрезвычайных ситу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еспечение необходимого уровня защищенности населения и объектов защиты от пожаров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img_sistema_112_700_390"/>
          <p:cNvPicPr/>
          <p:nvPr/>
        </p:nvPicPr>
        <p:blipFill>
          <a:blip r:embed="rId2"/>
          <a:stretch/>
        </p:blipFill>
        <p:spPr>
          <a:xfrm>
            <a:off x="165240" y="4578480"/>
            <a:ext cx="1535040" cy="259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kit.volganet.ru/upload/iblock/93e/foto-29.07.2015_1.jpeg"/>
          <p:cNvPicPr/>
          <p:nvPr/>
        </p:nvPicPr>
        <p:blipFill>
          <a:blip r:embed="rId3"/>
          <a:stretch/>
        </p:blipFill>
        <p:spPr>
          <a:xfrm>
            <a:off x="195120" y="3071880"/>
            <a:ext cx="153684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BF54DA4-E1A8-4481-A9DA-4DE8F96C841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Прямоугольник 18"/>
          <p:cNvSpPr/>
          <p:nvPr/>
        </p:nvSpPr>
        <p:spPr>
          <a:xfrm>
            <a:off x="1547640" y="619452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673200" y="17924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00" y="270828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665360" y="310824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DF4E84E-BDDF-40C7-BE04-D41A00CB761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3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0" descr="260120171042.jpg"/>
          <p:cNvPicPr/>
          <p:nvPr/>
        </p:nvPicPr>
        <p:blipFill>
          <a:blip r:embed="rId1"/>
          <a:stretch/>
        </p:blipFill>
        <p:spPr>
          <a:xfrm>
            <a:off x="6645240" y="560520"/>
            <a:ext cx="2876760" cy="16650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71424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32F5EC-969B-4C3C-8E3D-B24F87EB538F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657600" y="1017720"/>
            <a:ext cx="3129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714840" y="17859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3643200" y="2071800"/>
            <a:ext cx="3159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2920" y="3429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42920" y="3857760"/>
            <a:ext cx="34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929040" y="3714840"/>
            <a:ext cx="507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Предупреждение 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2081520"/>
                <a:gridCol w="1506240"/>
                <a:gridCol w="1986120"/>
              </a:tblGrid>
              <a:tr h="38736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5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364,27797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2 780,6080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29" name="Стрелка вправо 5"/>
          <p:cNvGrpSpPr/>
          <p:nvPr/>
        </p:nvGrpSpPr>
        <p:grpSpPr>
          <a:xfrm>
            <a:off x="3419640" y="3889440"/>
            <a:ext cx="585720" cy="712800"/>
            <a:chOff x="3419640" y="3889440"/>
            <a:chExt cx="585720" cy="712800"/>
          </a:xfrm>
        </p:grpSpPr>
        <p:pic>
          <p:nvPicPr>
            <p:cNvPr id="130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3419640" y="3889440"/>
              <a:ext cx="585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500280" y="4068720"/>
              <a:ext cx="3207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трелка вниз 6"/>
          <p:cNvGrpSpPr/>
          <p:nvPr/>
        </p:nvGrpSpPr>
        <p:grpSpPr>
          <a:xfrm>
            <a:off x="7564320" y="4602240"/>
            <a:ext cx="720720" cy="446040"/>
            <a:chOff x="7564320" y="4602240"/>
            <a:chExt cx="720720" cy="446040"/>
          </a:xfrm>
        </p:grpSpPr>
        <p:pic>
          <p:nvPicPr>
            <p:cNvPr id="133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7564320" y="4602240"/>
              <a:ext cx="72072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83560" y="4643280"/>
              <a:ext cx="280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трелка углом вверх 8"/>
          <p:cNvGrpSpPr/>
          <p:nvPr/>
        </p:nvGrpSpPr>
        <p:grpSpPr>
          <a:xfrm>
            <a:off x="865080" y="4664160"/>
            <a:ext cx="1414440" cy="1730160"/>
            <a:chOff x="865080" y="4664160"/>
            <a:chExt cx="1414440" cy="1730160"/>
          </a:xfrm>
        </p:grpSpPr>
        <p:pic>
          <p:nvPicPr>
            <p:cNvPr id="136" name="Стрелка углом вверх 8" descr=""/>
            <p:cNvPicPr/>
            <p:nvPr/>
          </p:nvPicPr>
          <p:blipFill>
            <a:blip r:embed="rId5"/>
            <a:stretch/>
          </p:blipFill>
          <p:spPr>
            <a:xfrm>
              <a:off x="865080" y="4664160"/>
              <a:ext cx="141444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5400000">
              <a:off x="412200" y="5252760"/>
              <a:ext cx="1387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Рисунок 1" descr=""/>
          <p:cNvPicPr/>
          <p:nvPr/>
        </p:nvPicPr>
        <p:blipFill>
          <a:blip r:embed="rId6"/>
          <a:srcRect l="19206" t="26325" r="3407" b="10215"/>
          <a:stretch/>
        </p:blipFill>
        <p:spPr>
          <a:xfrm>
            <a:off x="6858000" y="1836720"/>
            <a:ext cx="2233440" cy="10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3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6859440" y="2952720"/>
            <a:ext cx="228456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9A6237C-CB17-40E5-B205-1C9E27EE2E6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112"/>
          <p:cNvPicPr/>
          <p:nvPr/>
        </p:nvPicPr>
        <p:blipFill>
          <a:blip r:embed="rId1"/>
          <a:stretch/>
        </p:blipFill>
        <p:spPr>
          <a:xfrm>
            <a:off x="6620040" y="1639800"/>
            <a:ext cx="2877840" cy="16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6613560" y="596880"/>
            <a:ext cx="28782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4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18"/>
          <p:cNvSpPr/>
          <p:nvPr/>
        </p:nvSpPr>
        <p:spPr>
          <a:xfrm>
            <a:off x="3643200" y="78588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657600" y="105084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7"/>
          <p:cNvSpPr/>
          <p:nvPr/>
        </p:nvSpPr>
        <p:spPr>
          <a:xfrm>
            <a:off x="142920" y="350028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142920" y="4000680"/>
            <a:ext cx="32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3857760" y="3714840"/>
            <a:ext cx="52862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Обеспечение  деятельности муниципального казенного учреждения "Единая дежурно-диспетчерская служба Нефтеюганского района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95640" y="4932360"/>
          <a:ext cx="6921360" cy="1901880"/>
        </p:xfrm>
        <a:graphic>
          <a:graphicData uri="http://schemas.openxmlformats.org/drawingml/2006/table">
            <a:tbl>
              <a:tblPr/>
              <a:tblGrid>
                <a:gridCol w="1368360"/>
                <a:gridCol w="1977840"/>
                <a:gridCol w="1406520"/>
                <a:gridCol w="216864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701,01913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4 011,9613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54" name="Стрелка вправо 31"/>
          <p:cNvGrpSpPr/>
          <p:nvPr/>
        </p:nvGrpSpPr>
        <p:grpSpPr>
          <a:xfrm>
            <a:off x="3279600" y="4029120"/>
            <a:ext cx="659160" cy="718920"/>
            <a:chOff x="3279600" y="4029120"/>
            <a:chExt cx="659160" cy="718920"/>
          </a:xfrm>
        </p:grpSpPr>
        <p:pic>
          <p:nvPicPr>
            <p:cNvPr id="155" name="Стрелка вправо 31" descr=""/>
            <p:cNvPicPr/>
            <p:nvPr/>
          </p:nvPicPr>
          <p:blipFill>
            <a:blip r:embed="rId4"/>
            <a:stretch/>
          </p:blipFill>
          <p:spPr>
            <a:xfrm>
              <a:off x="3279600" y="4029120"/>
              <a:ext cx="659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357720" y="4211640"/>
              <a:ext cx="3744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Стрелка вниз 32"/>
          <p:cNvGrpSpPr/>
          <p:nvPr/>
        </p:nvGrpSpPr>
        <p:grpSpPr>
          <a:xfrm>
            <a:off x="7589880" y="4529160"/>
            <a:ext cx="718920" cy="585720"/>
            <a:chOff x="7589880" y="4529160"/>
            <a:chExt cx="718920" cy="585720"/>
          </a:xfrm>
        </p:grpSpPr>
        <p:pic>
          <p:nvPicPr>
            <p:cNvPr id="158" name="Стрелка вниз 32" descr=""/>
            <p:cNvPicPr/>
            <p:nvPr/>
          </p:nvPicPr>
          <p:blipFill>
            <a:blip r:embed="rId5"/>
            <a:stretch/>
          </p:blipFill>
          <p:spPr>
            <a:xfrm>
              <a:off x="7589880" y="4529160"/>
              <a:ext cx="7189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07320" y="457200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Стрелка углом вверх 33"/>
          <p:cNvGrpSpPr/>
          <p:nvPr/>
        </p:nvGrpSpPr>
        <p:grpSpPr>
          <a:xfrm>
            <a:off x="865080" y="4950000"/>
            <a:ext cx="1414440" cy="1444320"/>
            <a:chOff x="865080" y="4950000"/>
            <a:chExt cx="1414440" cy="1444320"/>
          </a:xfrm>
        </p:grpSpPr>
        <p:pic>
          <p:nvPicPr>
            <p:cNvPr id="161" name="Стрелка углом вверх 33" descr=""/>
            <p:cNvPicPr/>
            <p:nvPr/>
          </p:nvPicPr>
          <p:blipFill>
            <a:blip r:embed="rId6"/>
            <a:stretch/>
          </p:blipFill>
          <p:spPr>
            <a:xfrm>
              <a:off x="865080" y="4950000"/>
              <a:ext cx="141444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5400000">
              <a:off x="555120" y="5395680"/>
              <a:ext cx="1101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1" descr="C:\Users\Sychevam\Desktop\КЧС и ОПБ\2019 год\УМС\DSCN0488.JPG"/>
          <p:cNvPicPr/>
          <p:nvPr/>
        </p:nvPicPr>
        <p:blipFill>
          <a:blip r:embed="rId7"/>
          <a:srcRect l="18074" t="22415" r="45728" b="42635"/>
          <a:stretch/>
        </p:blipFill>
        <p:spPr>
          <a:xfrm>
            <a:off x="6840360" y="2952720"/>
            <a:ext cx="226728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репление пожарной безопасности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41DFF5-C619-4E49-8CCA-580041CDC4E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6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3714840" y="100008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3714840" y="20001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714840" y="2286000"/>
            <a:ext cx="315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“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тсрации городского и сельских поселений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0" y="35002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3857760"/>
            <a:ext cx="314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зарегистрированных пожаров на объектах защиты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747960" y="3929040"/>
            <a:ext cx="53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Обеспечение пожарной безопасности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465200"/>
                <a:gridCol w="212400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4 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78" name="Стрелка вправо 29"/>
          <p:cNvGrpSpPr/>
          <p:nvPr/>
        </p:nvGrpSpPr>
        <p:grpSpPr>
          <a:xfrm>
            <a:off x="2992320" y="4029120"/>
            <a:ext cx="847800" cy="718920"/>
            <a:chOff x="2992320" y="4029120"/>
            <a:chExt cx="847800" cy="718920"/>
          </a:xfrm>
        </p:grpSpPr>
        <p:pic>
          <p:nvPicPr>
            <p:cNvPr id="179" name="Стрелка вправо 29" descr=""/>
            <p:cNvPicPr/>
            <p:nvPr/>
          </p:nvPicPr>
          <p:blipFill>
            <a:blip r:embed="rId2"/>
            <a:stretch/>
          </p:blipFill>
          <p:spPr>
            <a:xfrm>
              <a:off x="2992320" y="4029120"/>
              <a:ext cx="8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071880" y="4211640"/>
              <a:ext cx="547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Стрелка вниз 30"/>
          <p:cNvGrpSpPr/>
          <p:nvPr/>
        </p:nvGrpSpPr>
        <p:grpSpPr>
          <a:xfrm>
            <a:off x="7564320" y="4456080"/>
            <a:ext cx="720720" cy="585720"/>
            <a:chOff x="7564320" y="4456080"/>
            <a:chExt cx="720720" cy="585720"/>
          </a:xfrm>
        </p:grpSpPr>
        <p:pic>
          <p:nvPicPr>
            <p:cNvPr id="182" name="Стрелка вниз 30" descr=""/>
            <p:cNvPicPr/>
            <p:nvPr/>
          </p:nvPicPr>
          <p:blipFill>
            <a:blip r:embed="rId3"/>
            <a:stretch/>
          </p:blipFill>
          <p:spPr>
            <a:xfrm>
              <a:off x="7564320" y="4456080"/>
              <a:ext cx="720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783560" y="4500720"/>
              <a:ext cx="28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трелка углом вверх 31"/>
          <p:cNvGrpSpPr/>
          <p:nvPr/>
        </p:nvGrpSpPr>
        <p:grpSpPr>
          <a:xfrm>
            <a:off x="841320" y="4950000"/>
            <a:ext cx="1414440" cy="1658880"/>
            <a:chOff x="841320" y="4950000"/>
            <a:chExt cx="1414440" cy="1658880"/>
          </a:xfrm>
        </p:grpSpPr>
        <p:pic>
          <p:nvPicPr>
            <p:cNvPr id="185" name="Стрелка углом вверх 31" descr=""/>
            <p:cNvPicPr/>
            <p:nvPr/>
          </p:nvPicPr>
          <p:blipFill>
            <a:blip r:embed="rId4"/>
            <a:stretch/>
          </p:blipFill>
          <p:spPr>
            <a:xfrm>
              <a:off x="841320" y="4950000"/>
              <a:ext cx="14144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5400000">
              <a:off x="426960" y="5502240"/>
              <a:ext cx="13143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17" descr="C:\Users\Sychevam\Desktop\Муниципальные программы\1. МП 11 Защита населения 2019-2024 до 2030\2019\Проект изменения на 2019 год\IMG_20190802_120856.jpg"/>
          <p:cNvPicPr/>
          <p:nvPr/>
        </p:nvPicPr>
        <p:blipFill>
          <a:blip r:embed="rId5"/>
          <a:srcRect l="17467" t="22184" r="14690" b="37331"/>
          <a:stretch/>
        </p:blipFill>
        <p:spPr>
          <a:xfrm>
            <a:off x="6935760" y="3168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8" name="Picture 18" descr="C:\Users\Sychevam\Desktop\Муниципальные программы\1. МП 11 Защита населения 2019-2024 до 2030\2019\Проект изменения на 2019 год\IMG_20171211_125222.jpg"/>
          <p:cNvPicPr/>
          <p:nvPr/>
        </p:nvPicPr>
        <p:blipFill>
          <a:blip r:embed="rId6"/>
          <a:srcRect l="0" t="28516" r="0" b="0"/>
          <a:stretch/>
        </p:blipFill>
        <p:spPr>
          <a:xfrm>
            <a:off x="6935760" y="2052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9" name="Рисунок 22" descr="C:\Users\gu192\Desktop\Доклад НГУ внедрение приоритетных направлений\Памятка по извещателям 2.jpg"/>
          <p:cNvPicPr/>
          <p:nvPr/>
        </p:nvPicPr>
        <p:blipFill>
          <a:blip r:embed="rId7"/>
          <a:stretch/>
        </p:blipFill>
        <p:spPr>
          <a:xfrm>
            <a:off x="6929280" y="755640"/>
            <a:ext cx="2214720" cy="124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6959467-FE44-40A6-9CC0-3AC5B06AB57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9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91960" y="1116000"/>
            <a:ext cx="3600720" cy="916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 на период до 2030 г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6 797,46982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Стрелка вправо 25"/>
          <p:cNvGrpSpPr/>
          <p:nvPr/>
        </p:nvGrpSpPr>
        <p:grpSpPr>
          <a:xfrm>
            <a:off x="4280040" y="1292400"/>
            <a:ext cx="1255680" cy="585720"/>
            <a:chOff x="4280040" y="1292400"/>
            <a:chExt cx="1255680" cy="585720"/>
          </a:xfrm>
        </p:grpSpPr>
        <p:pic>
          <p:nvPicPr>
            <p:cNvPr id="198" name="Стрелка вправо 25" descr=""/>
            <p:cNvPicPr/>
            <p:nvPr/>
          </p:nvPicPr>
          <p:blipFill>
            <a:blip r:embed="rId3"/>
            <a:stretch/>
          </p:blipFill>
          <p:spPr>
            <a:xfrm>
              <a:off x="4280040" y="1292400"/>
              <a:ext cx="1255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356000" y="1440000"/>
              <a:ext cx="99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Box 28"/>
          <p:cNvSpPr/>
          <p:nvPr/>
        </p:nvSpPr>
        <p:spPr>
          <a:xfrm>
            <a:off x="5235480" y="1187280"/>
            <a:ext cx="360072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 065,29710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4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5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22880" y="1116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н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Диаграмма 14"/>
          <p:cNvGraphicFramePr/>
          <p:nvPr/>
        </p:nvGraphicFramePr>
        <p:xfrm>
          <a:off x="92160" y="1806480"/>
          <a:ext cx="8996400" cy="4950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5" name="Диаграмма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160" y="1806480"/>
                    <a:ext cx="89964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2-17T07:46:35Z</dcterms:modified>
  <cp:revision>559</cp:revision>
  <dc:subject/>
  <dc:title>Слайд 1</dc:title>
</cp:coreProperties>
</file>