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21.png" ContentType="image/png"/>
  <Override PartName="/ppt/media/image4.png" ContentType="image/png"/>
  <Override PartName="/ppt/media/image6.jpeg" ContentType="image/jpeg"/>
  <Override PartName="/ppt/media/image27.png" ContentType="image/png"/>
  <Override PartName="/ppt/media/image33.jpeg" ContentType="image/jpeg"/>
  <Override PartName="/ppt/media/image10.png" ContentType="image/png"/>
  <Override PartName="/ppt/media/image1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1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002B7A-842E-41CB-834B-CD1F0634FC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AD638A-1232-438A-BC01-E9C912700F9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33BF2B5-1B00-48B4-9997-4176D0DBE73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E2A5-A71C-452B-A898-BB5E7425B662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fld id="{459A404F-55D5-4C0E-9804-8540ED99BE8E}" type="datetime10">
              <a:rPr b="0" lang="en-US" sz="1200" spc="-1" strike="noStrike">
                <a:solidFill>
                  <a:srgbClr val="ffffff"/>
                </a:solidFill>
                <a:latin typeface="Calibri"/>
              </a:rPr>
              <a:t>00:48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ooter Placeholder 5"/>
          <p:cNvSpPr/>
          <p:nvPr/>
        </p:nvSpPr>
        <p:spPr>
          <a:xfrm>
            <a:off x="0" y="9429840"/>
            <a:ext cx="61182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© Корпорация Майкрософт (Microsoft Corporation), 2007. Все права защищены. Microsoft, Windows, Windows Vista и другие названия продуктов являются или могут являться зарегистрированными товарными знаками и/или товарными знаками в США и/или других странах.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Информация приведена в этом документе только в демонстрационных целях и не отражает точку зрения представителей корпорации Майкрософт на момент составления данной презентации.  Поскольку корпорация Майкрософт вынуждена учитывать меняющиеся рыночные условия, она не гарантирует точность информации, указанной после составления этой презентации, а также не берет на себя подобной обязанности. 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КОРПОРАЦИЯ МАЙКРОСОФТ НЕ ДАЕТ НИКАКИХ ЯВНЫХ, ПОДРАЗУМЕВАЕМЫХ ИЛИ ЗАКРЕПЛЕННЫХ ЗАКОНОДАТЕЛЬСТВОМ ГАРАНТИЙ В ОТНОШЕНИИ СВЕДЕНИЙ ИЗ ЭТОЙ ПРЕЗЕНТАЦИИ.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Slide Number Placeholder 6"/>
          <p:cNvSpPr/>
          <p:nvPr/>
        </p:nvSpPr>
        <p:spPr>
          <a:xfrm>
            <a:off x="6118200" y="9429840"/>
            <a:ext cx="677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040E-4999-47AB-B723-F2DB29A2416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47458B-45AD-4521-A74D-0B34F50313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71DF806-6135-49F3-AD1B-4C5376C2D4B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7978C3-118F-4212-884F-18DE953BE6F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FC7CBBB-39FE-4930-B83E-FC452EA3988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5AB1C9-9A03-475B-A714-F3CF351379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400B2B7-14AC-4A6E-B9A1-ADD252CBFCE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C2C09A-6A73-4055-8B0E-AE4CAEAA53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050A13E-6C6D-4680-9FB0-0229D13F805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3" descr="white rectangle.png"/>
          <p:cNvPicPr/>
          <p:nvPr/>
        </p:nvPicPr>
        <p:blipFill>
          <a:blip r:embed="rId3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841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7603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1093680" indent="6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7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package" Target="../embeddings/oleObject1.xlsx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заставка-1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0" y="2928960"/>
            <a:ext cx="91440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rmAutofit/>
          </a:bodyPr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АЯ ПРОГРАМ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ФТЕЮГАНСКОГО РАЙ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БЕЗОПАСНОСТЬ ЖИЗНЕДЕЯТЕЛЬНОСТ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87" name="Прямоугольник 9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Box 10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Прямоугольник 2" descr=""/>
          <p:cNvPicPr/>
          <p:nvPr/>
        </p:nvPicPr>
        <p:blipFill>
          <a:blip r:embed="rId3"/>
          <a:stretch/>
        </p:blipFill>
        <p:spPr>
          <a:xfrm>
            <a:off x="-19080" y="1000080"/>
            <a:ext cx="9163080" cy="72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1"/>
          <p:cNvSpPr/>
          <p:nvPr/>
        </p:nvSpPr>
        <p:spPr>
          <a:xfrm>
            <a:off x="1476360" y="1347840"/>
            <a:ext cx="728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необходимого уровня безопасности жизнедеятельности, уровня защищенности населения и территории Нефтеюганского района, материальных и культурных ценностей от опасностей, возникающих при военных конфликтах, чрезвычайных ситуациях и при пожар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227160" y="13478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189000" y="263376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1714680" y="2500200"/>
            <a:ext cx="700056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Совершенствование защиты населения, материальных и культурных ценностей от опасностей, возникающих при военных конфликтах и чрезвычайных ситуациях, включая обеспечение необходимого уровня готовности систем управления, связи, информирования и оповещения, а также сил и средств, предназначенных для предупреждения и ликвидации чрезвычайных ситуац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беспечение необходимого уровня защищенности населения и объектов защиты от пожаров на территории Нефтеюганского рай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12" descr="img_sistema_112_700_390"/>
          <p:cNvPicPr/>
          <p:nvPr/>
        </p:nvPicPr>
        <p:blipFill>
          <a:blip r:embed="rId2"/>
          <a:stretch/>
        </p:blipFill>
        <p:spPr>
          <a:xfrm>
            <a:off x="165240" y="4578480"/>
            <a:ext cx="1535040" cy="2590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http://kit.volganet.ru/upload/iblock/93e/foto-29.07.2015_1.jpeg"/>
          <p:cNvPicPr/>
          <p:nvPr/>
        </p:nvPicPr>
        <p:blipFill>
          <a:blip r:embed="rId3"/>
          <a:stretch/>
        </p:blipFill>
        <p:spPr>
          <a:xfrm>
            <a:off x="195120" y="3071880"/>
            <a:ext cx="1536840" cy="2676600"/>
          </a:xfrm>
          <a:prstGeom prst="rect">
            <a:avLst/>
          </a:prstGeom>
          <a:ln w="0">
            <a:noFill/>
          </a:ln>
        </p:spPr>
      </p:pic>
      <p:sp>
        <p:nvSpPr>
          <p:cNvPr id="98" name="Oval 6"/>
          <p:cNvSpPr/>
          <p:nvPr/>
        </p:nvSpPr>
        <p:spPr>
          <a:xfrm>
            <a:off x="8758080" y="20520"/>
            <a:ext cx="3621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E946E1C-7C62-494D-BBB5-AC2AF0AA86A4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00" name="Прямоугольник 19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Box 20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" name="Picture 6" descr="C:\Users\VShishkanov.ADMOIL\Downloads\герб.gif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Прямоугольник 18"/>
          <p:cNvSpPr/>
          <p:nvPr/>
        </p:nvSpPr>
        <p:spPr>
          <a:xfrm>
            <a:off x="1547640" y="6194520"/>
            <a:ext cx="69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Муниципальной программой не предусмотрена реализация национальных проектов 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6"/>
          <p:cNvSpPr/>
          <p:nvPr/>
        </p:nvSpPr>
        <p:spPr>
          <a:xfrm>
            <a:off x="142920" y="13525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ственный исполнитель муниципальной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0" y="82872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>
            <a:off x="673200" y="179244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47600" y="2708280"/>
            <a:ext cx="55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исполнители муниципальной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1665360" y="3108240"/>
            <a:ext cx="727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строительства и жилищно-коммунального комплекса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культуры и спорта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и городского и сельских поселений Нефтеюганск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755200" y="2844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BDC9241-807B-4FB3-9454-8CACDE89D176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11" name="Прямоугольник 12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Box 13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3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0" descr="260120171042.jpg"/>
          <p:cNvPicPr/>
          <p:nvPr/>
        </p:nvPicPr>
        <p:blipFill>
          <a:blip r:embed="rId1"/>
          <a:stretch/>
        </p:blipFill>
        <p:spPr>
          <a:xfrm>
            <a:off x="6645240" y="560520"/>
            <a:ext cx="2876760" cy="1665000"/>
          </a:xfrm>
          <a:prstGeom prst="rect">
            <a:avLst/>
          </a:prstGeom>
          <a:ln w="0">
            <a:noFill/>
          </a:ln>
        </p:spPr>
      </p:pic>
      <p:sp>
        <p:nvSpPr>
          <p:cNvPr id="115" name="Заголовок 1"/>
          <p:cNvSpPr/>
          <p:nvPr/>
        </p:nvSpPr>
        <p:spPr>
          <a:xfrm>
            <a:off x="0" y="71424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программа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изация и обеспечение мероприятий в сфере гражданской обороны, защиты населения и территории Нефтеюганского района от чрезвычайных ситуац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19378A1-D2EF-4B86-86A2-CFC1480AA621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18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Box 17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0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extBox 18"/>
          <p:cNvSpPr/>
          <p:nvPr/>
        </p:nvSpPr>
        <p:spPr>
          <a:xfrm>
            <a:off x="3657600" y="74304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тветственный исполните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3657600" y="1017720"/>
            <a:ext cx="31291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20"/>
          <p:cNvSpPr/>
          <p:nvPr/>
        </p:nvSpPr>
        <p:spPr>
          <a:xfrm>
            <a:off x="3714840" y="1785960"/>
            <a:ext cx="30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оисполнит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3643200" y="2071800"/>
            <a:ext cx="31593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строительства и жилищно-коммунального комплекса Нефтеюганского район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культуры и спорта Нефтеюганского район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27"/>
          <p:cNvSpPr/>
          <p:nvPr/>
        </p:nvSpPr>
        <p:spPr>
          <a:xfrm>
            <a:off x="142920" y="3429000"/>
            <a:ext cx="30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евой показат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42920" y="3857760"/>
            <a:ext cx="3476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личество чрезвычайных ситуаций на территории Нефтеюганского района, единиц (ед.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3929040" y="3714840"/>
            <a:ext cx="507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 мероприят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. Предупреждение и ликвидация чрезвычайных ситуаций природного и техногенного характера на территории Нефтеюга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195640" y="4932360"/>
          <a:ext cx="6948360" cy="1901880"/>
        </p:xfrm>
        <a:graphic>
          <a:graphicData uri="http://schemas.openxmlformats.org/drawingml/2006/table">
            <a:tbl>
              <a:tblPr/>
              <a:tblGrid>
                <a:gridCol w="1374480"/>
                <a:gridCol w="1984680"/>
                <a:gridCol w="1603080"/>
                <a:gridCol w="1986120"/>
              </a:tblGrid>
              <a:tr h="387360"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Карта результатов реализац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24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Текущий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Плановый показатель на 2030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Общий объем финансиров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за весь пери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559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плановый показа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объем финанс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е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 008,38330тыс. руб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е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3 424,71337 тыс. руб.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  <p:grpSp>
        <p:nvGrpSpPr>
          <p:cNvPr id="129" name="Стрелка вправо 5"/>
          <p:cNvGrpSpPr/>
          <p:nvPr/>
        </p:nvGrpSpPr>
        <p:grpSpPr>
          <a:xfrm>
            <a:off x="3419640" y="3889440"/>
            <a:ext cx="585720" cy="712800"/>
            <a:chOff x="3419640" y="3889440"/>
            <a:chExt cx="585720" cy="712800"/>
          </a:xfrm>
        </p:grpSpPr>
        <p:pic>
          <p:nvPicPr>
            <p:cNvPr id="130" name="Стрелка вправо 5" descr=""/>
            <p:cNvPicPr/>
            <p:nvPr/>
          </p:nvPicPr>
          <p:blipFill>
            <a:blip r:embed="rId3"/>
            <a:stretch/>
          </p:blipFill>
          <p:spPr>
            <a:xfrm>
              <a:off x="3419640" y="3889440"/>
              <a:ext cx="58572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500280" y="4068720"/>
              <a:ext cx="3207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Стрелка вниз 6"/>
          <p:cNvGrpSpPr/>
          <p:nvPr/>
        </p:nvGrpSpPr>
        <p:grpSpPr>
          <a:xfrm>
            <a:off x="7564320" y="4602240"/>
            <a:ext cx="720720" cy="446040"/>
            <a:chOff x="7564320" y="4602240"/>
            <a:chExt cx="720720" cy="446040"/>
          </a:xfrm>
        </p:grpSpPr>
        <p:pic>
          <p:nvPicPr>
            <p:cNvPr id="133" name="Стрелка вниз 6" descr=""/>
            <p:cNvPicPr/>
            <p:nvPr/>
          </p:nvPicPr>
          <p:blipFill>
            <a:blip r:embed="rId4"/>
            <a:stretch/>
          </p:blipFill>
          <p:spPr>
            <a:xfrm>
              <a:off x="7564320" y="4602240"/>
              <a:ext cx="72072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783560" y="4643280"/>
              <a:ext cx="2808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Стрелка углом вверх 8"/>
          <p:cNvGrpSpPr/>
          <p:nvPr/>
        </p:nvGrpSpPr>
        <p:grpSpPr>
          <a:xfrm>
            <a:off x="865080" y="4664160"/>
            <a:ext cx="1414440" cy="1730160"/>
            <a:chOff x="865080" y="4664160"/>
            <a:chExt cx="1414440" cy="1730160"/>
          </a:xfrm>
        </p:grpSpPr>
        <p:pic>
          <p:nvPicPr>
            <p:cNvPr id="136" name="Стрелка углом вверх 8" descr=""/>
            <p:cNvPicPr/>
            <p:nvPr/>
          </p:nvPicPr>
          <p:blipFill>
            <a:blip r:embed="rId5"/>
            <a:stretch/>
          </p:blipFill>
          <p:spPr>
            <a:xfrm>
              <a:off x="865080" y="4664160"/>
              <a:ext cx="1414440" cy="17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 rot="5400000">
              <a:off x="412200" y="5252760"/>
              <a:ext cx="13874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8" name="Рисунок 1" descr=""/>
          <p:cNvPicPr/>
          <p:nvPr/>
        </p:nvPicPr>
        <p:blipFill>
          <a:blip r:embed="rId6"/>
          <a:srcRect l="19206" t="26325" r="3407" b="10215"/>
          <a:stretch/>
        </p:blipFill>
        <p:spPr>
          <a:xfrm>
            <a:off x="6858000" y="1836720"/>
            <a:ext cx="2233440" cy="107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65000"/>
              </a:srgbClr>
            </a:outerShdw>
          </a:effectLst>
        </p:spPr>
      </p:pic>
      <p:pic>
        <p:nvPicPr>
          <p:cNvPr id="139" name="Picture 3" descr="C:\Users\Sychevam\Desktop\Муниципальные программы\1. МП 11 Защита населения 2019-2024 до 2030\2019\Проект изменения на 2019 год\IMG_20180524_113107.jpg"/>
          <p:cNvPicPr/>
          <p:nvPr/>
        </p:nvPicPr>
        <p:blipFill>
          <a:blip r:embed="rId7"/>
          <a:stretch/>
        </p:blipFill>
        <p:spPr>
          <a:xfrm>
            <a:off x="6859440" y="2952720"/>
            <a:ext cx="2284560" cy="105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65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Заголовок 1"/>
          <p:cNvSpPr/>
          <p:nvPr/>
        </p:nvSpPr>
        <p:spPr>
          <a:xfrm>
            <a:off x="0" y="8571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программа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изация и обеспечение мероприятий в сфере гражданской обороны, защиты населения и территории Нефтеюганского района от чрезвычайных ситуац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264D4ED-773F-4C35-A495-1040E7E96E8C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6" descr="112"/>
          <p:cNvPicPr/>
          <p:nvPr/>
        </p:nvPicPr>
        <p:blipFill>
          <a:blip r:embed="rId1"/>
          <a:stretch/>
        </p:blipFill>
        <p:spPr>
          <a:xfrm>
            <a:off x="6620040" y="1639800"/>
            <a:ext cx="2877840" cy="1683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" descr=""/>
          <p:cNvPicPr/>
          <p:nvPr/>
        </p:nvPicPr>
        <p:blipFill>
          <a:blip r:embed="rId2"/>
          <a:stretch/>
        </p:blipFill>
        <p:spPr>
          <a:xfrm>
            <a:off x="6613560" y="596880"/>
            <a:ext cx="2878200" cy="1646280"/>
          </a:xfrm>
          <a:prstGeom prst="rect">
            <a:avLst/>
          </a:prstGeom>
          <a:ln w="0">
            <a:noFill/>
          </a:ln>
        </p:spPr>
      </p:pic>
      <p:grpSp>
        <p:nvGrpSpPr>
          <p:cNvPr id="14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4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Box 17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7" name="Picture 6" descr="C:\Users\VShishkanov.ADMOIL\Downloads\герб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TextBox 18"/>
          <p:cNvSpPr/>
          <p:nvPr/>
        </p:nvSpPr>
        <p:spPr>
          <a:xfrm>
            <a:off x="3643200" y="78588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тветственный исполните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3657600" y="1050840"/>
            <a:ext cx="2952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27"/>
          <p:cNvSpPr/>
          <p:nvPr/>
        </p:nvSpPr>
        <p:spPr>
          <a:xfrm>
            <a:off x="142920" y="3500280"/>
            <a:ext cx="30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евой показат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28"/>
          <p:cNvSpPr/>
          <p:nvPr/>
        </p:nvSpPr>
        <p:spPr>
          <a:xfrm>
            <a:off x="142920" y="4000680"/>
            <a:ext cx="3286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личество чрезвычайных ситуаций на территории Нефтеюганского района, единиц (ед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29"/>
          <p:cNvSpPr/>
          <p:nvPr/>
        </p:nvSpPr>
        <p:spPr>
          <a:xfrm>
            <a:off x="3857760" y="3714840"/>
            <a:ext cx="5286240" cy="10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 мероприят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2. Обеспечение  деятельности муниципального казенного учреждения "Единая дежурно-диспетчерская служба Нефтеюганского района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195640" y="4932360"/>
          <a:ext cx="6921360" cy="1901880"/>
        </p:xfrm>
        <a:graphic>
          <a:graphicData uri="http://schemas.openxmlformats.org/drawingml/2006/table">
            <a:tbl>
              <a:tblPr/>
              <a:tblGrid>
                <a:gridCol w="1368360"/>
                <a:gridCol w="1977840"/>
                <a:gridCol w="1406520"/>
                <a:gridCol w="2168640"/>
              </a:tblGrid>
              <a:tr h="392040"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Карта результатов реализац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Текущий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Плановый показатель на 2030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Общий объем финансиров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за весь пери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56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плановый показа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объем финанс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е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 223,37429 тыс. руб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 е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53 539,21694 тыс. руб.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  <p:grpSp>
        <p:nvGrpSpPr>
          <p:cNvPr id="154" name="Стрелка вправо 31"/>
          <p:cNvGrpSpPr/>
          <p:nvPr/>
        </p:nvGrpSpPr>
        <p:grpSpPr>
          <a:xfrm>
            <a:off x="3279600" y="4029120"/>
            <a:ext cx="659160" cy="718920"/>
            <a:chOff x="3279600" y="4029120"/>
            <a:chExt cx="659160" cy="718920"/>
          </a:xfrm>
        </p:grpSpPr>
        <p:pic>
          <p:nvPicPr>
            <p:cNvPr id="155" name="Стрелка вправо 31" descr=""/>
            <p:cNvPicPr/>
            <p:nvPr/>
          </p:nvPicPr>
          <p:blipFill>
            <a:blip r:embed="rId4"/>
            <a:stretch/>
          </p:blipFill>
          <p:spPr>
            <a:xfrm>
              <a:off x="3279600" y="4029120"/>
              <a:ext cx="6591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357720" y="4211640"/>
              <a:ext cx="3744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Стрелка вниз 32"/>
          <p:cNvGrpSpPr/>
          <p:nvPr/>
        </p:nvGrpSpPr>
        <p:grpSpPr>
          <a:xfrm>
            <a:off x="7589880" y="4529160"/>
            <a:ext cx="718920" cy="585720"/>
            <a:chOff x="7589880" y="4529160"/>
            <a:chExt cx="718920" cy="585720"/>
          </a:xfrm>
        </p:grpSpPr>
        <p:pic>
          <p:nvPicPr>
            <p:cNvPr id="158" name="Стрелка вниз 32" descr=""/>
            <p:cNvPicPr/>
            <p:nvPr/>
          </p:nvPicPr>
          <p:blipFill>
            <a:blip r:embed="rId5"/>
            <a:stretch/>
          </p:blipFill>
          <p:spPr>
            <a:xfrm>
              <a:off x="7589880" y="4529160"/>
              <a:ext cx="71892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807320" y="4572000"/>
              <a:ext cx="2793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Стрелка углом вверх 33"/>
          <p:cNvGrpSpPr/>
          <p:nvPr/>
        </p:nvGrpSpPr>
        <p:grpSpPr>
          <a:xfrm>
            <a:off x="865080" y="4950000"/>
            <a:ext cx="1414440" cy="1444320"/>
            <a:chOff x="865080" y="4950000"/>
            <a:chExt cx="1414440" cy="1444320"/>
          </a:xfrm>
        </p:grpSpPr>
        <p:pic>
          <p:nvPicPr>
            <p:cNvPr id="161" name="Стрелка углом вверх 33" descr=""/>
            <p:cNvPicPr/>
            <p:nvPr/>
          </p:nvPicPr>
          <p:blipFill>
            <a:blip r:embed="rId6"/>
            <a:stretch/>
          </p:blipFill>
          <p:spPr>
            <a:xfrm>
              <a:off x="865080" y="4950000"/>
              <a:ext cx="141444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 rot="5400000">
              <a:off x="555120" y="5395680"/>
              <a:ext cx="11016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3" name="Picture 11" descr="C:\Users\Sychevam\Desktop\КЧС и ОПБ\2019 год\УМС\DSCN0488.JPG"/>
          <p:cNvPicPr/>
          <p:nvPr/>
        </p:nvPicPr>
        <p:blipFill>
          <a:blip r:embed="rId7"/>
          <a:srcRect l="18074" t="22415" r="45728" b="42635"/>
          <a:stretch/>
        </p:blipFill>
        <p:spPr>
          <a:xfrm>
            <a:off x="6840360" y="2952720"/>
            <a:ext cx="2267280" cy="105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Заголовок 1"/>
          <p:cNvSpPr/>
          <p:nvPr/>
        </p:nvSpPr>
        <p:spPr>
          <a:xfrm>
            <a:off x="0" y="8571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программа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I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крепление пожарной безопасности на территории Нефтеюганского рай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6D30E98-F6E4-4738-A982-9F160E645D31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67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Box 17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9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TextBox 18"/>
          <p:cNvSpPr/>
          <p:nvPr/>
        </p:nvSpPr>
        <p:spPr>
          <a:xfrm>
            <a:off x="3657600" y="743040"/>
            <a:ext cx="30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тветственный исполните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3714840" y="1000080"/>
            <a:ext cx="2952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20"/>
          <p:cNvSpPr/>
          <p:nvPr/>
        </p:nvSpPr>
        <p:spPr>
          <a:xfrm>
            <a:off x="3714840" y="2000160"/>
            <a:ext cx="30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оисполнит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23"/>
          <p:cNvSpPr/>
          <p:nvPr/>
        </p:nvSpPr>
        <p:spPr>
          <a:xfrm>
            <a:off x="3714840" y="2286000"/>
            <a:ext cx="3159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строительства и жилищно-коммунального комплекса Нефтеюганского района“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тсрации городского и сельских поселений Нефтеюганского район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0" y="3500280"/>
            <a:ext cx="30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евой показат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0" y="3857760"/>
            <a:ext cx="3143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личество зарегистрированных пожаров на объектах защиты на территории Нефтеюганского района, единиц (ед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3747960" y="3929040"/>
            <a:ext cx="539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 мероприят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1. Обеспечение пожарной безопасности на территории Нефтеюга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195640" y="4932360"/>
          <a:ext cx="6948360" cy="1901880"/>
        </p:xfrm>
        <a:graphic>
          <a:graphicData uri="http://schemas.openxmlformats.org/drawingml/2006/table">
            <a:tbl>
              <a:tblPr/>
              <a:tblGrid>
                <a:gridCol w="1374480"/>
                <a:gridCol w="1984680"/>
                <a:gridCol w="1465200"/>
                <a:gridCol w="2124000"/>
              </a:tblGrid>
              <a:tr h="392040"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Карта результатов реализаци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Текущий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Плановый показатель на 2030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Общий объем финансиров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за весь пери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56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плановый показа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3030f8"/>
                          </a:solidFill>
                          <a:latin typeface="Arial"/>
                        </a:rPr>
                        <a:t>объем финанс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9 е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,00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тыс. руб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4 ед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00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00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тыс. руб.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  <p:grpSp>
        <p:nvGrpSpPr>
          <p:cNvPr id="178" name="Стрелка вправо 29"/>
          <p:cNvGrpSpPr/>
          <p:nvPr/>
        </p:nvGrpSpPr>
        <p:grpSpPr>
          <a:xfrm>
            <a:off x="2992320" y="4029120"/>
            <a:ext cx="847800" cy="718920"/>
            <a:chOff x="2992320" y="4029120"/>
            <a:chExt cx="847800" cy="718920"/>
          </a:xfrm>
        </p:grpSpPr>
        <p:pic>
          <p:nvPicPr>
            <p:cNvPr id="179" name="Стрелка вправо 29" descr=""/>
            <p:cNvPicPr/>
            <p:nvPr/>
          </p:nvPicPr>
          <p:blipFill>
            <a:blip r:embed="rId2"/>
            <a:stretch/>
          </p:blipFill>
          <p:spPr>
            <a:xfrm>
              <a:off x="2992320" y="4029120"/>
              <a:ext cx="8478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071880" y="4211640"/>
              <a:ext cx="547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Стрелка вниз 30"/>
          <p:cNvGrpSpPr/>
          <p:nvPr/>
        </p:nvGrpSpPr>
        <p:grpSpPr>
          <a:xfrm>
            <a:off x="7564320" y="4456080"/>
            <a:ext cx="720720" cy="585720"/>
            <a:chOff x="7564320" y="4456080"/>
            <a:chExt cx="720720" cy="585720"/>
          </a:xfrm>
        </p:grpSpPr>
        <p:pic>
          <p:nvPicPr>
            <p:cNvPr id="182" name="Стрелка вниз 30" descr=""/>
            <p:cNvPicPr/>
            <p:nvPr/>
          </p:nvPicPr>
          <p:blipFill>
            <a:blip r:embed="rId3"/>
            <a:stretch/>
          </p:blipFill>
          <p:spPr>
            <a:xfrm>
              <a:off x="7564320" y="4456080"/>
              <a:ext cx="72072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783560" y="4500720"/>
              <a:ext cx="280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Стрелка углом вверх 31"/>
          <p:cNvGrpSpPr/>
          <p:nvPr/>
        </p:nvGrpSpPr>
        <p:grpSpPr>
          <a:xfrm>
            <a:off x="841320" y="4950000"/>
            <a:ext cx="1414440" cy="1658880"/>
            <a:chOff x="841320" y="4950000"/>
            <a:chExt cx="1414440" cy="1658880"/>
          </a:xfrm>
        </p:grpSpPr>
        <p:pic>
          <p:nvPicPr>
            <p:cNvPr id="185" name="Стрелка углом вверх 31" descr=""/>
            <p:cNvPicPr/>
            <p:nvPr/>
          </p:nvPicPr>
          <p:blipFill>
            <a:blip r:embed="rId4"/>
            <a:stretch/>
          </p:blipFill>
          <p:spPr>
            <a:xfrm>
              <a:off x="841320" y="4950000"/>
              <a:ext cx="141444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 rot="5400000">
              <a:off x="426960" y="5502240"/>
              <a:ext cx="131436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7" name="Picture 17" descr="C:\Users\Sychevam\Desktop\Муниципальные программы\1. МП 11 Защита населения 2019-2024 до 2030\2019\Проект изменения на 2019 год\IMG_20190802_120856.jpg"/>
          <p:cNvPicPr/>
          <p:nvPr/>
        </p:nvPicPr>
        <p:blipFill>
          <a:blip r:embed="rId5"/>
          <a:srcRect l="17467" t="22184" r="14690" b="37331"/>
          <a:stretch/>
        </p:blipFill>
        <p:spPr>
          <a:xfrm>
            <a:off x="6935760" y="3168720"/>
            <a:ext cx="2208240" cy="105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65000"/>
              </a:srgbClr>
            </a:outerShdw>
          </a:effectLst>
        </p:spPr>
      </p:pic>
      <p:pic>
        <p:nvPicPr>
          <p:cNvPr id="188" name="Picture 18" descr="C:\Users\Sychevam\Desktop\Муниципальные программы\1. МП 11 Защита населения 2019-2024 до 2030\2019\Проект изменения на 2019 год\IMG_20171211_125222.jpg"/>
          <p:cNvPicPr/>
          <p:nvPr/>
        </p:nvPicPr>
        <p:blipFill>
          <a:blip r:embed="rId6"/>
          <a:srcRect l="0" t="28516" r="0" b="0"/>
          <a:stretch/>
        </p:blipFill>
        <p:spPr>
          <a:xfrm>
            <a:off x="6935760" y="2052720"/>
            <a:ext cx="2208240" cy="105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65000"/>
              </a:srgbClr>
            </a:outerShdw>
          </a:effectLst>
        </p:spPr>
      </p:pic>
      <p:pic>
        <p:nvPicPr>
          <p:cNvPr id="189" name="Рисунок 22" descr="C:\Users\gu192\Desktop\Доклад НГУ внедрение приоритетных направлений\Памятка по извещателям 2.jpg"/>
          <p:cNvPicPr/>
          <p:nvPr/>
        </p:nvPicPr>
        <p:blipFill>
          <a:blip r:embed="rId7"/>
          <a:stretch/>
        </p:blipFill>
        <p:spPr>
          <a:xfrm>
            <a:off x="6929280" y="755640"/>
            <a:ext cx="2214720" cy="124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000000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A16926C-6BFF-4382-AFD4-03FDCA0E77E0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92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Box 17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4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0" y="71928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"/>
          <p:cNvSpPr/>
          <p:nvPr/>
        </p:nvSpPr>
        <p:spPr>
          <a:xfrm>
            <a:off x="291960" y="1116000"/>
            <a:ext cx="3600720" cy="9169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ий объем финансирования на период до 2030 год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46 963,93031 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Стрелка вправо 25"/>
          <p:cNvGrpSpPr/>
          <p:nvPr/>
        </p:nvGrpSpPr>
        <p:grpSpPr>
          <a:xfrm>
            <a:off x="4280040" y="1292400"/>
            <a:ext cx="1255680" cy="585720"/>
            <a:chOff x="4280040" y="1292400"/>
            <a:chExt cx="1255680" cy="585720"/>
          </a:xfrm>
        </p:grpSpPr>
        <p:pic>
          <p:nvPicPr>
            <p:cNvPr id="198" name="Стрелка вправо 25" descr=""/>
            <p:cNvPicPr/>
            <p:nvPr/>
          </p:nvPicPr>
          <p:blipFill>
            <a:blip r:embed="rId3"/>
            <a:stretch/>
          </p:blipFill>
          <p:spPr>
            <a:xfrm>
              <a:off x="4280040" y="1292400"/>
              <a:ext cx="125568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356000" y="1440000"/>
              <a:ext cx="992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TextBox 28"/>
          <p:cNvSpPr/>
          <p:nvPr/>
        </p:nvSpPr>
        <p:spPr>
          <a:xfrm>
            <a:off x="5235480" y="1187280"/>
            <a:ext cx="3600720" cy="642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го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7 231,75759 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2" descr="C:\Users\Sychevam\Desktop\Муниципальные программы\1. МП 11 Защита населения 2019-2024 до 2030\2019\Проект изменения на 2019 год\38-1488213701.jpg"/>
          <p:cNvPicPr/>
          <p:nvPr/>
        </p:nvPicPr>
        <p:blipFill>
          <a:blip r:embed="rId4"/>
          <a:stretch/>
        </p:blipFill>
        <p:spPr>
          <a:xfrm>
            <a:off x="36360" y="6094440"/>
            <a:ext cx="1297080" cy="735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C:\Users\Sychevam\Desktop\Муниципальные программы\1. МП 11 Защита населения 2019-2024 до 2030\2019\Проект изменения на 2019 год\russian_money.jpg"/>
          <p:cNvPicPr/>
          <p:nvPr/>
        </p:nvPicPr>
        <p:blipFill>
          <a:blip r:embed="rId5"/>
          <a:stretch/>
        </p:blipFill>
        <p:spPr>
          <a:xfrm>
            <a:off x="7821720" y="6093000"/>
            <a:ext cx="1295280" cy="7347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"/>
          <p:cNvSpPr/>
          <p:nvPr/>
        </p:nvSpPr>
        <p:spPr>
          <a:xfrm>
            <a:off x="4322880" y="111600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ни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Диаграмма 18"/>
          <p:cNvGraphicFramePr/>
          <p:nvPr/>
        </p:nvGraphicFramePr>
        <p:xfrm>
          <a:off x="511200" y="1930320"/>
          <a:ext cx="8045280" cy="45388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05" name="Диаграмма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1200" y="1930320"/>
                    <a:ext cx="8045280" cy="45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лавный специалист - Лукин Сергей Васильевич</dc:creator>
  <dc:description/>
  <dc:language>en-US</dc:language>
  <cp:lastModifiedBy>Сычёв Александр Михайлович</cp:lastModifiedBy>
  <cp:lastPrinted>2014-03-05T07:57:00Z</cp:lastPrinted>
  <dcterms:modified xsi:type="dcterms:W3CDTF">2024-06-21T04:15:35Z</dcterms:modified>
  <cp:revision>547</cp:revision>
  <dc:subject/>
  <dc:title>Слайд 1</dc:title>
</cp:coreProperties>
</file>