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B722C7-678B-46F4-A478-0C7E777789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225F75-1F8C-4BA8-8F3E-466F282A919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CA35CD1-517B-47D3-88F5-E8B9EE3F00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67E7F2-2189-448B-AF91-A9924CEF41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66F51A7-2D06-4E9D-BA66-28DABE08123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9B1A3D-06DA-478C-9BF9-8E2964BDA4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768ED02-727A-4226-B51A-F7F4A311617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40750A-3552-41FA-9CC1-892A0EB9B6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6C8E21A-7AC5-46DA-804D-11EA14421D6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B99164-3388-4DB0-A20A-3C9F8D8CE6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BB37777-1335-4B33-A413-35FB25F3199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546E02-16D9-45C5-ADA6-1045E3A02B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E1BA17B-9347-4519-A71C-48E58570855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10F0DE-E2A5-4B2B-AA83-4E92C4CEA6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DD34AD3-7F87-4233-AABB-1ACB61532EA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CCD3-8DAD-4811-899C-E7B461067E9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F54159B5-6147-44B2-8C37-F37193CF7EB1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17:5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49FD-E941-4F44-B4CE-397FB70DE8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D71A21-6D8F-4F10-BF82-3138C63DB9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23973D8-A8F9-47CF-B9BA-F6198C1BF66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3FC7BF-7B61-4B26-BB35-D02930823E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C2936C3-EED8-4F02-A711-A3B3479F174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70C7AA-6D9A-488C-9985-81C9008CEE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D4A4045-CF84-4855-AB6D-19A61616BFA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4BFE87-9764-488A-8DA2-1E26C54760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E0080B6-1A12-4F97-981B-1557AA1865B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9CF575-B01D-4D51-A9F9-38314ACD00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96B7EEE-10CA-4947-A435-4C0A5D45D06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D84877-FEB5-4598-B315-3A53655BE6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B090DB6-C628-49C6-8826-495D20B52B7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 fontScale="93000"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РОФИЛАКТИКА ПРАВОНАРУШЕНИ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48632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493000" y="5445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уратор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5148360" y="544500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вый замест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лавы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.А.Кудаш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5F6947D-7E4B-40EF-B68D-07E5150973AB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рганизация и проведение мероприятий, направленных на профилактику правонарушений несовершеннолетни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8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Скругленный прямоугольник 39"/>
          <p:cNvSpPr/>
          <p:nvPr/>
        </p:nvSpPr>
        <p:spPr>
          <a:xfrm>
            <a:off x="34920" y="3344760"/>
            <a:ext cx="2016000" cy="33242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614">
                <a:moveTo>
                  <a:pt x="0" y="0"/>
                </a:moveTo>
                <a:arcTo wR="0" hR="0" stAng="16200000" swAng="-5400000"/>
                <a:lnTo>
                  <a:pt x="0" y="35614"/>
                </a:lnTo>
                <a:arcTo wR="0" hR="0" stAng="10800000" swAng="-5400000"/>
                <a:lnTo>
                  <a:pt x="21600" y="3561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рганизация и проведение мероприятий, направленных на профилактику правонарушений несовершеннолетн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27"/>
          <p:cNvSpPr/>
          <p:nvPr/>
        </p:nvSpPr>
        <p:spPr>
          <a:xfrm>
            <a:off x="2124000" y="4076640"/>
            <a:ext cx="4859280" cy="1728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оведение профилактических мер, направленных на снижение вовлеченности несовершеннолетних в противоправную и преступную деятельность, путе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проведения спортивных, культурных, образовательных мероприят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конкурсов по формированию законопослушного поведения и здорового образа жизни несовершеннолетн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CE7DED-5A96-4339-9A7E-A3164CD23ADB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0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Box 2"/>
          <p:cNvSpPr/>
          <p:nvPr/>
        </p:nvSpPr>
        <p:spPr>
          <a:xfrm>
            <a:off x="147600" y="2608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Реализация профилактического комплекса мер в антинаркотической деятельност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31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Скругленный прямоугольник 39"/>
          <p:cNvSpPr/>
          <p:nvPr/>
        </p:nvSpPr>
        <p:spPr>
          <a:xfrm>
            <a:off x="34920" y="3344760"/>
            <a:ext cx="1873080" cy="33242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8331">
                <a:moveTo>
                  <a:pt x="0" y="0"/>
                </a:moveTo>
                <a:arcTo wR="0" hR="0" stAng="16200000" swAng="-5400000"/>
                <a:lnTo>
                  <a:pt x="0" y="38331"/>
                </a:lnTo>
                <a:arcTo wR="0" hR="0" stAng="10800000" swAng="-5400000"/>
                <a:lnTo>
                  <a:pt x="21600" y="383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офилактика незаконного оборота и потребления наркотических средств и психотропных ве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кругленный прямоугольник 27"/>
          <p:cNvSpPr/>
          <p:nvPr/>
        </p:nvSpPr>
        <p:spPr>
          <a:xfrm>
            <a:off x="1944720" y="2952720"/>
            <a:ext cx="5038560" cy="3871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профессионального уровня, квалификации специалистов субъектов профилактики наркомании: организация и проведение семинаров, тренингов, конференций, совещаний по вопросам реализации антинаркотической полит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осведомленности граждан о рисках, связанных с незаконным потреблением наркот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формирование негативного отношения к незаконному обороту и потреблению наркотиков в целях привлечения молодежи к решению проблем наркома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я муниципальных мероприятий по профилактике незаконного потребления наркотических средств и психотропных веществ, наркомании направленных на снижение наркотизации насе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рганизацию и проведение антинаркотических мероприят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иобретение атрибутики с антинаркотическими логотип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Антинаркотическую пропаганду (социальная реклама в СМИ, наружная социальная реклам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45"/>
          <p:cNvSpPr/>
          <p:nvPr/>
        </p:nvSpPr>
        <p:spPr>
          <a:xfrm>
            <a:off x="7045200" y="33465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9195B3F-F6F1-4391-8DE3-D496D55D9E1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муниципального казенного учреждения «Единая дежурно-диспетчерская служба Нефтеюганского района»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48" name="Скругленный прямоугольник 39"/>
          <p:cNvSpPr/>
          <p:nvPr/>
        </p:nvSpPr>
        <p:spPr>
          <a:xfrm>
            <a:off x="108000" y="33447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деятельности муниципального казенного учреждения «Единая дежурно-диспетчерская служба Нефтеюганского район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Скругленный прямоугольник 40"/>
          <p:cNvSpPr/>
          <p:nvPr/>
        </p:nvSpPr>
        <p:spPr>
          <a:xfrm>
            <a:off x="1979640" y="3355920"/>
            <a:ext cx="4829040" cy="1200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деятельности муниципального казенного учреждения «Единая дежурно-диспетчерская служба Нефтеюганского район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2" descr="img_sistema_112_700_390"/>
          <p:cNvPicPr/>
          <p:nvPr/>
        </p:nvPicPr>
        <p:blipFill>
          <a:blip r:embed="rId5"/>
          <a:stretch/>
        </p:blipFill>
        <p:spPr>
          <a:xfrm>
            <a:off x="2163600" y="4748040"/>
            <a:ext cx="2140200" cy="3614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http://kit.volganet.ru/upload/iblock/93e/foto-29.07.2015_1.jpeg"/>
          <p:cNvPicPr/>
          <p:nvPr/>
        </p:nvPicPr>
        <p:blipFill>
          <a:blip r:embed="rId6"/>
          <a:stretch/>
        </p:blipFill>
        <p:spPr>
          <a:xfrm>
            <a:off x="4522680" y="4748040"/>
            <a:ext cx="2060640" cy="361476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27"/>
          <p:cNvSpPr/>
          <p:nvPr/>
        </p:nvSpPr>
        <p:spPr>
          <a:xfrm>
            <a:off x="6972480" y="3346560"/>
            <a:ext cx="2071440" cy="3324240"/>
          </a:xfrm>
          <a:custGeom>
            <a:avLst/>
            <a:gdLst/>
            <a:ahLst/>
            <a:rect l="l" t="t" r="r" b="b"/>
            <a:pathLst>
              <a:path w="21600" h="34661">
                <a:moveTo>
                  <a:pt x="0" y="0"/>
                </a:moveTo>
                <a:arcTo wR="0" hR="0" stAng="16200000" swAng="-5400000"/>
                <a:lnTo>
                  <a:pt x="0" y="34661"/>
                </a:lnTo>
                <a:arcTo wR="0" hR="0" stAng="10800000" swAng="-5400000"/>
                <a:lnTo>
                  <a:pt x="21600" y="346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BBB1D10-8C61-44EB-8A53-73327AA5D436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56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по первичному воинскому учету органами местного самоуправления поселений, муниципальных и городских округ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74" name="Скругленный прямоугольник 39"/>
          <p:cNvSpPr/>
          <p:nvPr/>
        </p:nvSpPr>
        <p:spPr>
          <a:xfrm>
            <a:off x="108000" y="3344760"/>
            <a:ext cx="2284200" cy="332424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1433">
                <a:moveTo>
                  <a:pt x="0" y="0"/>
                </a:moveTo>
                <a:arcTo wR="0" hR="0" stAng="16200000" swAng="-5400000"/>
                <a:lnTo>
                  <a:pt x="0" y="31433"/>
                </a:lnTo>
                <a:arcTo wR="0" hR="0" stAng="10800000" swAng="-5400000"/>
                <a:lnTo>
                  <a:pt x="21600" y="314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существление первичного воинского учета органами местного самоуправления поселений, муниципальных и городских окру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0"/>
          <p:cNvSpPr/>
          <p:nvPr/>
        </p:nvSpPr>
        <p:spPr>
          <a:xfrm>
            <a:off x="2556000" y="3355920"/>
            <a:ext cx="3875040" cy="1513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лномочий по осуществлению первичного воинского учета органами местного самоуправления поселений, на территориях которых отсутствуют структурные подразделения военных комиссариатов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27"/>
          <p:cNvSpPr/>
          <p:nvPr/>
        </p:nvSpPr>
        <p:spPr>
          <a:xfrm>
            <a:off x="6594480" y="3346560"/>
            <a:ext cx="2449440" cy="339552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1600" h="29942">
                <a:moveTo>
                  <a:pt x="0" y="0"/>
                </a:moveTo>
                <a:arcTo wR="0" hR="0" stAng="16200000" swAng="-5400000"/>
                <a:lnTo>
                  <a:pt x="0" y="29942"/>
                </a:lnTo>
                <a:arcTo wR="0" hR="0" stAng="10800000" swAng="-5400000"/>
                <a:lnTo>
                  <a:pt x="21600" y="2994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отдел специальных мероприятий администрации Нефтеюганского райо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тдел планирования анализа и отчетности администрации Нефтеюганского района) / Администрации городского и сельских поселений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0E82124-237E-4078-9BD4-2956EF26E09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Box 30"/>
          <p:cNvSpPr/>
          <p:nvPr/>
        </p:nvSpPr>
        <p:spPr>
          <a:xfrm>
            <a:off x="34920" y="746280"/>
            <a:ext cx="9082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та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39"/>
          <p:cNvSpPr/>
          <p:nvPr/>
        </p:nvSpPr>
        <p:spPr>
          <a:xfrm>
            <a:off x="108000" y="2690640"/>
            <a:ext cx="263520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ед. =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27"/>
          <p:cNvSpPr/>
          <p:nvPr/>
        </p:nvSpPr>
        <p:spPr>
          <a:xfrm>
            <a:off x="1969920" y="1335240"/>
            <a:ext cx="5040360" cy="11458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2030 года: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5 915,98879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 2025 год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724,86094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5"/>
          <p:cNvSpPr/>
          <p:nvPr/>
        </p:nvSpPr>
        <p:spPr>
          <a:xfrm>
            <a:off x="2916360" y="2690640"/>
            <a:ext cx="316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5 ед.           94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Группа 54"/>
          <p:cNvGrpSpPr/>
          <p:nvPr/>
        </p:nvGrpSpPr>
        <p:grpSpPr>
          <a:xfrm>
            <a:off x="0" y="1123920"/>
            <a:ext cx="9144000" cy="138240"/>
            <a:chOff x="0" y="1123920"/>
            <a:chExt cx="9144000" cy="138240"/>
          </a:xfrm>
        </p:grpSpPr>
        <p:grpSp>
          <p:nvGrpSpPr>
            <p:cNvPr id="388" name="Прямоугольник 40"/>
            <p:cNvGrpSpPr/>
            <p:nvPr/>
          </p:nvGrpSpPr>
          <p:grpSpPr>
            <a:xfrm>
              <a:off x="0" y="1123920"/>
              <a:ext cx="9144000" cy="113040"/>
              <a:chOff x="0" y="1123920"/>
              <a:chExt cx="9144000" cy="113040"/>
            </a:xfrm>
          </p:grpSpPr>
          <p:pic>
            <p:nvPicPr>
              <p:cNvPr id="389" name="Прямоугольник 40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23920"/>
                <a:ext cx="9144000" cy="1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77760" y="1144800"/>
                <a:ext cx="8988480" cy="3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Прямоугольник 41"/>
            <p:cNvGrpSpPr/>
            <p:nvPr/>
          </p:nvGrpSpPr>
          <p:grpSpPr>
            <a:xfrm>
              <a:off x="0" y="1154880"/>
              <a:ext cx="9144000" cy="107280"/>
              <a:chOff x="0" y="1154880"/>
              <a:chExt cx="9144000" cy="107280"/>
            </a:xfrm>
          </p:grpSpPr>
          <p:pic>
            <p:nvPicPr>
              <p:cNvPr id="392" name="Прямоугольник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154880"/>
                <a:ext cx="914400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 rot="10800000">
                <a:off x="77760" y="1175040"/>
                <a:ext cx="898848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94" name="Рисунок 11" descr=""/>
          <p:cNvPicPr/>
          <p:nvPr/>
        </p:nvPicPr>
        <p:blipFill>
          <a:blip r:embed="rId4"/>
          <a:stretch/>
        </p:blipFill>
        <p:spPr>
          <a:xfrm>
            <a:off x="4392720" y="389736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95" name="Скругленный прямоугольник 18"/>
          <p:cNvSpPr/>
          <p:nvPr/>
        </p:nvSpPr>
        <p:spPr>
          <a:xfrm>
            <a:off x="6227640" y="2690640"/>
            <a:ext cx="280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ед.            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Рисунок 11" descr=""/>
          <p:cNvPicPr/>
          <p:nvPr/>
        </p:nvPicPr>
        <p:blipFill>
          <a:blip r:embed="rId5"/>
          <a:stretch/>
        </p:blipFill>
        <p:spPr>
          <a:xfrm>
            <a:off x="7470720" y="3825720"/>
            <a:ext cx="324000" cy="324000"/>
          </a:xfrm>
          <a:prstGeom prst="rect">
            <a:avLst/>
          </a:prstGeom>
          <a:ln w="0">
            <a:noFill/>
          </a:ln>
        </p:spPr>
      </p:pic>
      <p:grpSp>
        <p:nvGrpSpPr>
          <p:cNvPr id="397" name="Группа 1"/>
          <p:cNvGrpSpPr/>
          <p:nvPr/>
        </p:nvGrpSpPr>
        <p:grpSpPr>
          <a:xfrm>
            <a:off x="1386000" y="4811760"/>
            <a:ext cx="3168360" cy="1911240"/>
            <a:chOff x="1386000" y="4811760"/>
            <a:chExt cx="3168360" cy="1911240"/>
          </a:xfrm>
        </p:grpSpPr>
        <p:sp>
          <p:nvSpPr>
            <p:cNvPr id="398" name="Скругленный прямоугольник 20"/>
            <p:cNvSpPr/>
            <p:nvPr/>
          </p:nvSpPr>
          <p:spPr>
            <a:xfrm>
              <a:off x="1386000" y="4811760"/>
              <a:ext cx="3168360" cy="1911240"/>
            </a:xfrm>
            <a:prstGeom prst="roundRect">
              <a:avLst>
                <a:gd name="adj" fmla="val 0"/>
              </a:avLst>
            </a:prstGeom>
            <a:solidFill>
              <a:srgbClr val="ffffff">
                <a:alpha val="47000"/>
              </a:srgbClr>
            </a:solidFill>
            <a:ln w="38160">
              <a:solidFill>
                <a:srgbClr val="3030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00ff00"/>
                  </a:solidFill>
                  <a:latin typeface="Calibri"/>
                </a:rPr>
                <a:t>Уровень преступности (число зарегистрированных преступлений на 100 тыс. человек населения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458 ед.            1455 е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c000"/>
                  </a:solidFill>
                  <a:latin typeface="Calibri"/>
                  <a:ea typeface="Times New Roman"/>
                </a:rPr>
                <a:t>План на 2025 год: </a:t>
              </a:r>
              <a:r>
                <a:rPr b="1" lang="ru-RU" sz="1800" spc="-1" strike="noStrike">
                  <a:solidFill>
                    <a:srgbClr val="00ff00"/>
                  </a:solidFill>
                  <a:latin typeface="Calibri"/>
                  <a:ea typeface="Times New Roman"/>
                </a:rPr>
                <a:t>1458 е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9" name="Рисунок 10" descr=""/>
            <p:cNvPicPr/>
            <p:nvPr/>
          </p:nvPicPr>
          <p:blipFill>
            <a:blip r:embed="rId6"/>
            <a:stretch/>
          </p:blipFill>
          <p:spPr>
            <a:xfrm>
              <a:off x="2825640" y="5805360"/>
              <a:ext cx="32364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Скругленный прямоугольник 23"/>
          <p:cNvSpPr/>
          <p:nvPr/>
        </p:nvSpPr>
        <p:spPr>
          <a:xfrm>
            <a:off x="4775040" y="4811760"/>
            <a:ext cx="3168720" cy="1911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на улицах и в общественных местах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 ед.            87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Рисунок 10" descr=""/>
          <p:cNvPicPr/>
          <p:nvPr/>
        </p:nvPicPr>
        <p:blipFill>
          <a:blip r:embed="rId7"/>
          <a:stretch/>
        </p:blipFill>
        <p:spPr>
          <a:xfrm>
            <a:off x="6197760" y="5808600"/>
            <a:ext cx="32364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8A0080D-FF1F-4394-91BD-EA21FB113E73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404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6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8"/>
          <p:cNvSpPr/>
          <p:nvPr/>
        </p:nvSpPr>
        <p:spPr>
          <a:xfrm>
            <a:off x="6227640" y="1314360"/>
            <a:ext cx="291636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724,86094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3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4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grpSp>
        <p:nvGrpSpPr>
          <p:cNvPr id="411" name="Группа 54"/>
          <p:cNvGrpSpPr/>
          <p:nvPr/>
        </p:nvGrpSpPr>
        <p:grpSpPr>
          <a:xfrm>
            <a:off x="0" y="1203480"/>
            <a:ext cx="9144000" cy="137880"/>
            <a:chOff x="0" y="1203480"/>
            <a:chExt cx="9144000" cy="137880"/>
          </a:xfrm>
        </p:grpSpPr>
        <p:grpSp>
          <p:nvGrpSpPr>
            <p:cNvPr id="412" name="Прямоугольник 18"/>
            <p:cNvGrpSpPr/>
            <p:nvPr/>
          </p:nvGrpSpPr>
          <p:grpSpPr>
            <a:xfrm>
              <a:off x="0" y="1203480"/>
              <a:ext cx="9144000" cy="112680"/>
              <a:chOff x="0" y="1203480"/>
              <a:chExt cx="9144000" cy="112680"/>
            </a:xfrm>
          </p:grpSpPr>
          <p:pic>
            <p:nvPicPr>
              <p:cNvPr id="413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203480"/>
                <a:ext cx="914400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77760" y="1224360"/>
                <a:ext cx="89884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Прямоугольник 19"/>
            <p:cNvGrpSpPr/>
            <p:nvPr/>
          </p:nvGrpSpPr>
          <p:grpSpPr>
            <a:xfrm>
              <a:off x="0" y="1234440"/>
              <a:ext cx="9144000" cy="106920"/>
              <a:chOff x="0" y="1234440"/>
              <a:chExt cx="9144000" cy="106920"/>
            </a:xfrm>
          </p:grpSpPr>
          <p:pic>
            <p:nvPicPr>
              <p:cNvPr id="416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234440"/>
                <a:ext cx="9144000" cy="10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 rot="10800000">
                <a:off x="77760" y="1254960"/>
                <a:ext cx="8988480" cy="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18" name="Диаграмма 16"/>
          <p:cNvGraphicFramePr/>
          <p:nvPr/>
        </p:nvGraphicFramePr>
        <p:xfrm>
          <a:off x="135000" y="376200"/>
          <a:ext cx="8885160" cy="6357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19" name="Диаграмма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000" y="376200"/>
                    <a:ext cx="88851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652320" y="167940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49400" y="2378160"/>
            <a:ext cx="55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949320" y="2778120"/>
            <a:ext cx="7988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экономического развития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комитет администрации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о делам несовершеннолетних, защите их прав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специальных мероприятий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ланирования, анализа и учета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7A63395-E418-4856-9105-9ECA0AFE16F3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49320" y="163440"/>
              <a:ext cx="43862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020600" y="1098720"/>
            <a:ext cx="8088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14200" y="10731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14200" y="24811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738440" y="2517840"/>
            <a:ext cx="566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2" descr="img_sistema_112_700_390"/>
          <p:cNvPicPr/>
          <p:nvPr/>
        </p:nvPicPr>
        <p:blipFill>
          <a:blip r:embed="rId2"/>
          <a:stretch/>
        </p:blipFill>
        <p:spPr>
          <a:xfrm>
            <a:off x="7827840" y="1994040"/>
            <a:ext cx="1121040" cy="187632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A227DB7-9950-4032-A2DC-2C1D52C8081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20"/>
            <p:cNvSpPr/>
            <p:nvPr/>
          </p:nvSpPr>
          <p:spPr>
            <a:xfrm>
              <a:off x="949320" y="163440"/>
              <a:ext cx="434340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Прямоугольник 18"/>
          <p:cNvSpPr/>
          <p:nvPr/>
        </p:nvSpPr>
        <p:spPr>
          <a:xfrm>
            <a:off x="0" y="6226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, региональных и муниципальных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1" descr=""/>
          <p:cNvPicPr/>
          <p:nvPr/>
        </p:nvPicPr>
        <p:blipFill>
          <a:blip r:embed="rId4"/>
          <a:stretch/>
        </p:blipFill>
        <p:spPr>
          <a:xfrm>
            <a:off x="219240" y="2835360"/>
            <a:ext cx="124452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2" descr=""/>
          <p:cNvPicPr/>
          <p:nvPr/>
        </p:nvPicPr>
        <p:blipFill>
          <a:blip r:embed="rId5"/>
          <a:stretch/>
        </p:blipFill>
        <p:spPr>
          <a:xfrm>
            <a:off x="291960" y="4821120"/>
            <a:ext cx="1140120" cy="1871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3"/>
          <p:cNvSpPr/>
          <p:nvPr/>
        </p:nvSpPr>
        <p:spPr>
          <a:xfrm>
            <a:off x="1738440" y="4452840"/>
            <a:ext cx="56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филактика правонарушений, незаконного оборота и потребления наркотических средств и психотропных вещест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4" descr=""/>
          <p:cNvPicPr/>
          <p:nvPr/>
        </p:nvPicPr>
        <p:blipFill>
          <a:blip r:embed="rId6"/>
          <a:stretch/>
        </p:blipFill>
        <p:spPr>
          <a:xfrm>
            <a:off x="7845480" y="3024360"/>
            <a:ext cx="1103400" cy="197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7851600" y="4095720"/>
            <a:ext cx="1109880" cy="17082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8"/>
          <a:stretch/>
        </p:blipFill>
        <p:spPr>
          <a:xfrm>
            <a:off x="7851600" y="5041800"/>
            <a:ext cx="1109880" cy="191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9"/>
          <a:stretch/>
        </p:blipFill>
        <p:spPr>
          <a:xfrm>
            <a:off x="285840" y="3822840"/>
            <a:ext cx="110952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0665BDB-BAEC-4226-A623-32CE075DECB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2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2"/>
          <p:cNvSpPr/>
          <p:nvPr/>
        </p:nvSpPr>
        <p:spPr>
          <a:xfrm>
            <a:off x="174600" y="280656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материально-техническими средствами, предназначенными для предупреждения и ликвидации чрезвычайных ситуац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6"/>
          <p:cNvSpPr/>
          <p:nvPr/>
        </p:nvSpPr>
        <p:spPr>
          <a:xfrm>
            <a:off x="6739560" y="23796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39"/>
          <p:cNvSpPr/>
          <p:nvPr/>
        </p:nvSpPr>
        <p:spPr>
          <a:xfrm>
            <a:off x="108000" y="34275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едуп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40"/>
          <p:cNvSpPr/>
          <p:nvPr/>
        </p:nvSpPr>
        <p:spPr>
          <a:xfrm>
            <a:off x="1979640" y="3355920"/>
            <a:ext cx="4829040" cy="865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формирования резервов материальных ресурсов (запасов) в целях экстренного привлечения необходимых средств в случае возникновения чрезвычайных ситуаций муниципального характера и в целях гражданской оборон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41"/>
          <p:cNvSpPr/>
          <p:nvPr/>
        </p:nvSpPr>
        <p:spPr>
          <a:xfrm>
            <a:off x="1979640" y="4248000"/>
            <a:ext cx="4829040" cy="8636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быстрого реагирования и улучшение взаимодействия экстренных оперативных служб в экстренных ситуациях с помощью Системы вызова экстренных оперативных служб по единому номеру "112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кругленный прямоугольник 42"/>
          <p:cNvSpPr/>
          <p:nvPr/>
        </p:nvSpPr>
        <p:spPr>
          <a:xfrm>
            <a:off x="1979640" y="5160960"/>
            <a:ext cx="4829040" cy="685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оповещения и информирования населения об опасностях, возникающих при чрезвычайных ситуациях природного и техногенного характер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кругленный прямоугольник 44"/>
          <p:cNvSpPr/>
          <p:nvPr/>
        </p:nvSpPr>
        <p:spPr>
          <a:xfrm>
            <a:off x="1971720" y="5894280"/>
            <a:ext cx="4829040" cy="963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Повышение уровня навыков применения правил поведения, способам защиты и действиям в ЧС, правилам пользования коллективными и индивидуальными средствами защиты при подготовке населения в области гражданской обороны и защиты населения путем обучения, повышения квалифик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Скругленный прямоугольник 45"/>
          <p:cNvSpPr/>
          <p:nvPr/>
        </p:nvSpPr>
        <p:spPr>
          <a:xfrm>
            <a:off x="6880320" y="3425760"/>
            <a:ext cx="2144520" cy="332424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3480">
                <a:moveTo>
                  <a:pt x="0" y="0"/>
                </a:moveTo>
                <a:arcTo wR="0" hR="0" stAng="16200000" swAng="-5400000"/>
                <a:lnTo>
                  <a:pt x="0" y="33480"/>
                </a:lnTo>
                <a:arcTo wR="0" hR="0" stAng="10800000" swAng="-5400000"/>
                <a:lnTo>
                  <a:pt x="21600" y="3348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525584C-8218-46A2-AFBC-A67080EED224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5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защиты населения и объектов защиты от пожар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70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кругленный прямоугольник 40"/>
          <p:cNvSpPr/>
          <p:nvPr/>
        </p:nvSpPr>
        <p:spPr>
          <a:xfrm>
            <a:off x="1908000" y="3344760"/>
            <a:ext cx="5112000" cy="130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Усиление мер по организации и осуществлению профилактики пожаров, в том числе организация обучения населения мерам пожарной безопасности, агитация в социальных сетях, проведение профилактических бесед, лекций, экскурс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жарной безопасности в населенных пун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кругленный прямоугольник 45"/>
          <p:cNvSpPr/>
          <p:nvPr/>
        </p:nvSpPr>
        <p:spPr>
          <a:xfrm>
            <a:off x="7093080" y="3344760"/>
            <a:ext cx="2023920" cy="33242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75">
                <a:moveTo>
                  <a:pt x="0" y="0"/>
                </a:moveTo>
                <a:arcTo wR="0" hR="0" stAng="16200000" swAng="-5400000"/>
                <a:lnTo>
                  <a:pt x="0" y="35475"/>
                </a:lnTo>
                <a:arcTo wR="0" hR="0" stAng="10800000" swAng="-5400000"/>
                <a:lnTo>
                  <a:pt x="21600" y="3547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41"/>
          <p:cNvSpPr/>
          <p:nvPr/>
        </p:nvSpPr>
        <p:spPr>
          <a:xfrm>
            <a:off x="1908000" y="4908600"/>
            <a:ext cx="5112000" cy="17604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авовой и социальной защиты личного состава добровольной пожарной охра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снащение подразделений добровольной пожарной охраны пожарной техникой, пожарно-техническим вооружением, аварийно-спасательным инструментом, средствами защиты и вещевым имущест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офессионального обучения личного состава добровольной пожарной охран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E396834-1F2B-4AE3-A2B9-3BDCA8B06808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7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безопасности людей в местах отдыха на водных объекта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95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Скругленный прямоугольник 40"/>
          <p:cNvSpPr/>
          <p:nvPr/>
        </p:nvSpPr>
        <p:spPr>
          <a:xfrm>
            <a:off x="1903320" y="3344760"/>
            <a:ext cx="511200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Развитие системы защищенности населения и обеспечения безопасности в местах отдыха на водных объектах Нефтеюганского рай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1892160" y="4421160"/>
            <a:ext cx="5113440" cy="12398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пляжей, обозначение границ купания ограждающими буйк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Проведение очистки дна акватории пля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спасательных постов с плавсредствами, оборудованием, снаряж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Скругленный прямоугольник 41"/>
          <p:cNvSpPr/>
          <p:nvPr/>
        </p:nvSpPr>
        <p:spPr>
          <a:xfrm>
            <a:off x="1903320" y="5904000"/>
            <a:ext cx="5112000" cy="76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спас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медицинского персона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Скругленный прямоугольник 45"/>
          <p:cNvSpPr/>
          <p:nvPr/>
        </p:nvSpPr>
        <p:spPr>
          <a:xfrm>
            <a:off x="7083360" y="3344760"/>
            <a:ext cx="2025720" cy="332424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43">
                <a:moveTo>
                  <a:pt x="0" y="0"/>
                </a:moveTo>
                <a:arcTo wR="0" hR="0" stAng="16200000" swAng="-5400000"/>
                <a:lnTo>
                  <a:pt x="0" y="35443"/>
                </a:lnTo>
                <a:arcTo wR="0" hR="0" stAng="10800000" swAng="-5400000"/>
                <a:lnTo>
                  <a:pt x="21600" y="3544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F7EF99A-8C3A-4543-87DF-715AFDC0B61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03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5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10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7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Скругленный прямоугольник 40"/>
          <p:cNvSpPr/>
          <p:nvPr/>
        </p:nvSpPr>
        <p:spPr>
          <a:xfrm>
            <a:off x="1903320" y="3457440"/>
            <a:ext cx="509292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оздание и совершенствование условий для деятельности народных дружин приведет к снижению уровня преступнос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в том числе на улицах и в общественных местах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1903320" y="4606920"/>
            <a:ext cx="5092920" cy="868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правовой и социальной защиты личного состава 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Материально-техническое обеспечение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Скругленный прямоугольник 41"/>
          <p:cNvSpPr/>
          <p:nvPr/>
        </p:nvSpPr>
        <p:spPr>
          <a:xfrm>
            <a:off x="1906560" y="5808600"/>
            <a:ext cx="5089680" cy="7635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Материальное стимулирование, личное страхование народных дружинников, участвующих в охране общественного поряд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Скругленный прямоугольник 45"/>
          <p:cNvSpPr/>
          <p:nvPr/>
        </p:nvSpPr>
        <p:spPr>
          <a:xfrm>
            <a:off x="7045200" y="3344760"/>
            <a:ext cx="2073240" cy="33242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31">
                <a:moveTo>
                  <a:pt x="0" y="0"/>
                </a:moveTo>
                <a:arcTo wR="0" hR="0" stAng="16200000" swAng="-5400000"/>
                <a:lnTo>
                  <a:pt x="0" y="34631"/>
                </a:lnTo>
                <a:arcTo wR="0" hR="0" stAng="10800000" swAng="-5400000"/>
                <a:lnTo>
                  <a:pt x="21600" y="346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на улицах и в общественных местах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F0326A8-17E9-43CC-92FA-66716EC9967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3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Скругленный прямоугольник 27"/>
          <p:cNvSpPr/>
          <p:nvPr/>
        </p:nvSpPr>
        <p:spPr>
          <a:xfrm>
            <a:off x="1917720" y="3875040"/>
            <a:ext cx="5045040" cy="2227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правовой грамотности насел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деятельности административной комиссии Нефтеюганского райо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пределение перечня должностных лиц органов местного самоуправления, уполномоченных составлять протоколы об административных правонарушен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и государственных полномочий по составлению (изменению и дополнению) списков кандидатов в присяжные заседатели федеральных судов общей юрисдикции в Российской Федер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BFDF076-E4DF-4108-8FCB-4C1DCF9786CD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5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овышение уровня правовой грамотности и формирование у населения навыков рационального потребительского поведе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6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27"/>
          <p:cNvSpPr/>
          <p:nvPr/>
        </p:nvSpPr>
        <p:spPr>
          <a:xfrm>
            <a:off x="1917720" y="4411800"/>
            <a:ext cx="5045040" cy="1425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Доля потребительских споров, разрешенных в досудебном и внесудебном порядке, в общем количестве споров с участием потребителей составит менее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5-06-24T09:27:16Z</dcterms:modified>
  <cp:revision>641</cp:revision>
  <dc:subject/>
  <dc:title>Слайд 1</dc:title>
</cp:coreProperties>
</file>