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F08365-0627-49FD-B1CE-96300F718F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D8DB3C-D9FD-4C9F-BE06-0A0C66CB4E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4288709-A451-415F-9F92-96E7ED6DED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C7EAB8-3C11-4652-AA09-1D421F465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7C65EA-D1AD-4A45-8FCD-9F83DAE5F1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8C85E0-528E-4F3A-B49F-744E96C642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22C22EC-04C7-4A97-A298-07B5109396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BE056-2F2B-4133-ADB1-BAFD7CE08B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D6EBD3-8F0F-47F1-869B-10A00CA757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32548-3E9B-4D82-AA0A-441EC7D16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0B4DE2-6979-4CA2-B1B9-8A120D7C380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40EFB3-B64A-489E-9A1F-9D38C9FFB7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5B7F265-C773-45A7-9239-676B1340FE8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44F9E2-802E-4F57-AABE-18ACD51F95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DB73AC-9B1A-4447-A7AB-26DBD8AB4D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2255-82B6-4DFE-8271-8F0FBD0EAB3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DE28605B-1164-4585-B333-D092F96F73B0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5:32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F874-7A00-46DA-83C4-F63F984DC9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B92A2D-E88B-4ED1-8CBD-D20685989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70F9B7F-08E8-471F-B5A5-F063AD7661F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2B5502-D7C6-4E02-BAEF-C6934C4AF2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E2CE21-BBC6-4E4A-9577-97E9D1C6DB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4F9C5C-C3EB-4904-B9B1-CBD645238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5D1F8C7-037F-4DF3-B9C3-E351AF1184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727950-7DFD-4CA3-94E4-E2EC2BD559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8DE3B1E-2034-4E9E-BDBF-365306B9058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5195E8-82A8-44A9-BC53-3FE75F8582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88209DE-312A-4F58-B62B-20B06504C88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3C375C-71F7-421A-BB06-5B96E5FA69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DEFFF18-BF69-47FB-BC25-937248CD21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F8D19E-A349-4AE7-BA27-A70DED56A9B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AF253D-6CCE-442F-BF1A-AC7D1D4C62E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22685E-3AEC-443C-96A1-63B90642F7D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9F2654-4BD3-4997-B756-386E8EE8E9C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656D92A-B0BA-4AE0-9A7D-EAB9A0A9D27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578,58803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397" name="Скругленный прямоугольник 20"/>
          <p:cNvSpPr/>
          <p:nvPr/>
        </p:nvSpPr>
        <p:spPr>
          <a:xfrm>
            <a:off x="2916360" y="4811760"/>
            <a:ext cx="316836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58 ед.            1455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145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Рисунок 10" descr=""/>
          <p:cNvPicPr/>
          <p:nvPr/>
        </p:nvPicPr>
        <p:blipFill>
          <a:blip r:embed="rId6"/>
          <a:stretch/>
        </p:blipFill>
        <p:spPr>
          <a:xfrm>
            <a:off x="4356000" y="5805360"/>
            <a:ext cx="32400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D62CCA5-A1EE-4B8F-AFA1-9652AEE3B67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1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3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09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0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3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5" name="Диаграмма 14"/>
          <p:cNvGraphicFramePr/>
          <p:nvPr/>
        </p:nvGraphicFramePr>
        <p:xfrm>
          <a:off x="28440" y="1330200"/>
          <a:ext cx="9029880" cy="548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6" name="Диаграмма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40" y="1330200"/>
                    <a:ext cx="9029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471F908-BE20-43FE-9EDA-E6A6E84080F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0E7ADC-1B4F-455D-A41C-47A207116AE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D2D6EB0-7AD4-4BF3-94C5-FA55409BF545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61435B1-8999-447A-B5A5-2DD287AE04B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836DF38-A53A-4B09-80B5-C45DC9D93B6F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7C9565-7E09-4D3C-8C2C-1ED7E3C493A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FA65325-8598-46E1-AD60-01F6AC40353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813C752-585B-498A-BCFE-1D37E30860E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12-09T08:39:45Z</dcterms:modified>
  <cp:revision>634</cp:revision>
  <dc:subject/>
  <dc:title>Слайд 1</dc:title>
</cp:coreProperties>
</file>