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646FCA-5D60-4306-8FA6-BFA5A1A706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B47856-A607-4E1D-9D4F-FED8537A63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DACCDDE-544F-4D50-BF43-6F14CD50FE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520195-7724-44F1-B077-C9FB25774F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5B7A7B4-36EF-43E2-8761-FBFB54AE849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219166-A589-4C6F-A66D-B2C22BEFD3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CD490C8-08A3-4816-A343-0C4446137EC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71A062-9BA8-4261-844B-5B0CB924A4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2F4EE16-8C03-4938-9167-BD36010172C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287CD1-96DA-46B1-B12D-A21F8AE58F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02B2DE9-A4C9-42BC-B7E2-135D82A55D9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8D5808-0336-49BE-9FFE-9E7DC3C8FE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C621400-F911-4346-BFC1-48EC522DFB8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7E0D27-B573-4217-B947-C94B5AB867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9196F00-D2DF-49BF-996F-54F8C4051CF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6952-7DC6-4E90-B988-2958C8DCBEC1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ECA700A1-4BEB-4F5B-B528-682741AD4009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23:0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B9E4-7EB7-42B5-B461-E706A0A090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B05C4B-5B12-49A7-869D-7412FAF869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88DBF88-1342-4D35-9BBB-A5BBF46D6D6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B3B456-EE47-4423-BCE9-366BA99136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CCADBF6-9C6F-4D29-832F-301451A687E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3A7FA0-96B5-415E-9BA6-C3563200A0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A641A60-889A-409F-9100-5090A2A2FFD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2BB971-CB74-47DF-B92D-B92B08E884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7B03861-AB7F-41C6-9DC6-6AC3E91E9DD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8818E1-FA8B-4B76-98DE-D262DF5C77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DA870DB-C7CB-4B9B-80EC-B82C71EC3C3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509C26-9F0B-4CD3-ADA3-7D67765F7A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269DB15-5C15-4597-8F65-5C46F664DD9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 fontScale="93000"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РОФИЛАКТИКА ПРАВОНАРУШЕНИ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48632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493000" y="5445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уратор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5148360" y="544500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вый замест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лавы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.А.Кудаш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FAE6A8B-8B55-41A6-9A6C-17D838658FB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рганизация и проведение мероприятий, направленных на профилактику правонарушений несовершеннолетни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8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Скругленный прямоугольник 39"/>
          <p:cNvSpPr/>
          <p:nvPr/>
        </p:nvSpPr>
        <p:spPr>
          <a:xfrm>
            <a:off x="34920" y="3344760"/>
            <a:ext cx="2016000" cy="33242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614">
                <a:moveTo>
                  <a:pt x="0" y="0"/>
                </a:moveTo>
                <a:arcTo wR="0" hR="0" stAng="16200000" swAng="-5400000"/>
                <a:lnTo>
                  <a:pt x="0" y="35614"/>
                </a:lnTo>
                <a:arcTo wR="0" hR="0" stAng="10800000" swAng="-5400000"/>
                <a:lnTo>
                  <a:pt x="21600" y="3561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рганизация и проведение мероприятий, направленных на профилактику правонарушений несовершеннолетн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27"/>
          <p:cNvSpPr/>
          <p:nvPr/>
        </p:nvSpPr>
        <p:spPr>
          <a:xfrm>
            <a:off x="2124000" y="4076640"/>
            <a:ext cx="4859280" cy="1728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оведение профилактических мер, направленных на снижение вовлеченности несовершеннолетних в противоправную и преступную деятельность, путе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проведения спортивных, культурных, образовательных мероприят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конкурсов по формированию законопослушного поведения и здорового образа жизни несовершеннолетн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4FF5784-3BE0-4CD4-BE2F-BEA1CFF1C10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0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Box 2"/>
          <p:cNvSpPr/>
          <p:nvPr/>
        </p:nvSpPr>
        <p:spPr>
          <a:xfrm>
            <a:off x="147600" y="2608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Реализация профилактического комплекса мер в антинаркотической деятельност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31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Скругленный прямоугольник 39"/>
          <p:cNvSpPr/>
          <p:nvPr/>
        </p:nvSpPr>
        <p:spPr>
          <a:xfrm>
            <a:off x="34920" y="3344760"/>
            <a:ext cx="1873080" cy="33242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8331">
                <a:moveTo>
                  <a:pt x="0" y="0"/>
                </a:moveTo>
                <a:arcTo wR="0" hR="0" stAng="16200000" swAng="-5400000"/>
                <a:lnTo>
                  <a:pt x="0" y="38331"/>
                </a:lnTo>
                <a:arcTo wR="0" hR="0" stAng="10800000" swAng="-5400000"/>
                <a:lnTo>
                  <a:pt x="21600" y="383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офилактика незаконного оборота и потребления наркотических средств и психотропных ве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кругленный прямоугольник 27"/>
          <p:cNvSpPr/>
          <p:nvPr/>
        </p:nvSpPr>
        <p:spPr>
          <a:xfrm>
            <a:off x="1944720" y="2952720"/>
            <a:ext cx="5038560" cy="3871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профессионального уровня, квалификации специалистов субъектов профилактики наркомании: организация и проведение семинаров, тренингов, конференций, совещаний по вопросам реализации антинаркотической полит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осведомленности граждан о рисках, связанных с незаконным потреблением наркот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формирование негативного отношения к незаконному обороту и потреблению наркотиков в целях привлечения молодежи к решению проблем наркома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я муниципальных мероприятий по профилактике незаконного потребления наркотических средств и психотропных веществ, наркомании направленных на снижение наркотизации насе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рганизацию и проведение антинаркотических мероприят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иобретение атрибутики с антинаркотическими логотип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Антинаркотическую пропаганду (социальная реклама в СМИ, наружная социальная реклам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45"/>
          <p:cNvSpPr/>
          <p:nvPr/>
        </p:nvSpPr>
        <p:spPr>
          <a:xfrm>
            <a:off x="7045200" y="33465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D55C3A4-5AA6-46C3-A3A1-FC9AC3E699AC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муниципального казенного учреждения «Единая дежурно-диспетчерская служба Нефтеюганского района»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48" name="Скругленный прямоугольник 39"/>
          <p:cNvSpPr/>
          <p:nvPr/>
        </p:nvSpPr>
        <p:spPr>
          <a:xfrm>
            <a:off x="108000" y="33447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деятельности муниципального казенного учреждения «Единая дежурно-диспетчерская служба Нефтеюганского район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Скругленный прямоугольник 40"/>
          <p:cNvSpPr/>
          <p:nvPr/>
        </p:nvSpPr>
        <p:spPr>
          <a:xfrm>
            <a:off x="1979640" y="3355920"/>
            <a:ext cx="4829040" cy="1200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деятельности муниципального казенного учреждения «Единая дежурно-диспетчерская служба Нефтеюганского район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2" descr="img_sistema_112_700_390"/>
          <p:cNvPicPr/>
          <p:nvPr/>
        </p:nvPicPr>
        <p:blipFill>
          <a:blip r:embed="rId5"/>
          <a:stretch/>
        </p:blipFill>
        <p:spPr>
          <a:xfrm>
            <a:off x="2163600" y="4748040"/>
            <a:ext cx="2140200" cy="3614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http://kit.volganet.ru/upload/iblock/93e/foto-29.07.2015_1.jpeg"/>
          <p:cNvPicPr/>
          <p:nvPr/>
        </p:nvPicPr>
        <p:blipFill>
          <a:blip r:embed="rId6"/>
          <a:stretch/>
        </p:blipFill>
        <p:spPr>
          <a:xfrm>
            <a:off x="4522680" y="4748040"/>
            <a:ext cx="2060640" cy="361476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27"/>
          <p:cNvSpPr/>
          <p:nvPr/>
        </p:nvSpPr>
        <p:spPr>
          <a:xfrm>
            <a:off x="6972480" y="3346560"/>
            <a:ext cx="2071440" cy="3324240"/>
          </a:xfrm>
          <a:custGeom>
            <a:avLst/>
            <a:gdLst/>
            <a:ahLst/>
            <a:rect l="l" t="t" r="r" b="b"/>
            <a:pathLst>
              <a:path w="21600" h="34661">
                <a:moveTo>
                  <a:pt x="0" y="0"/>
                </a:moveTo>
                <a:arcTo wR="0" hR="0" stAng="16200000" swAng="-5400000"/>
                <a:lnTo>
                  <a:pt x="0" y="34661"/>
                </a:lnTo>
                <a:arcTo wR="0" hR="0" stAng="10800000" swAng="-5400000"/>
                <a:lnTo>
                  <a:pt x="21600" y="346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7B6356C-30E1-4230-BC00-7F5935D238CE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56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по первичному воинскому учету органами местного самоуправления поселений, муниципальных и городских округ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74" name="Скругленный прямоугольник 39"/>
          <p:cNvSpPr/>
          <p:nvPr/>
        </p:nvSpPr>
        <p:spPr>
          <a:xfrm>
            <a:off x="108000" y="3344760"/>
            <a:ext cx="2284200" cy="332424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1433">
                <a:moveTo>
                  <a:pt x="0" y="0"/>
                </a:moveTo>
                <a:arcTo wR="0" hR="0" stAng="16200000" swAng="-5400000"/>
                <a:lnTo>
                  <a:pt x="0" y="31433"/>
                </a:lnTo>
                <a:arcTo wR="0" hR="0" stAng="10800000" swAng="-5400000"/>
                <a:lnTo>
                  <a:pt x="21600" y="314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существление первичного воинского учета органами местного самоуправления поселений, муниципальных и городских окру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0"/>
          <p:cNvSpPr/>
          <p:nvPr/>
        </p:nvSpPr>
        <p:spPr>
          <a:xfrm>
            <a:off x="2556000" y="3355920"/>
            <a:ext cx="3875040" cy="1513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лномочий по осуществлению первичного воинского учета органами местного самоуправления поселений, на территориях которых отсутствуют структурные подразделения военных комиссариатов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27"/>
          <p:cNvSpPr/>
          <p:nvPr/>
        </p:nvSpPr>
        <p:spPr>
          <a:xfrm>
            <a:off x="6594480" y="3346560"/>
            <a:ext cx="2449440" cy="339552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1600" h="29942">
                <a:moveTo>
                  <a:pt x="0" y="0"/>
                </a:moveTo>
                <a:arcTo wR="0" hR="0" stAng="16200000" swAng="-5400000"/>
                <a:lnTo>
                  <a:pt x="0" y="29942"/>
                </a:lnTo>
                <a:arcTo wR="0" hR="0" stAng="10800000" swAng="-5400000"/>
                <a:lnTo>
                  <a:pt x="21600" y="2994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отдел специальных мероприятий администрации Нефтеюганского райо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тдел планирования анализа и отчетности администрации Нефтеюганского района) / Администрации городского и сельских поселений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0D4F600-A586-49FC-98CF-5A95DE7C9F71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Box 30"/>
          <p:cNvSpPr/>
          <p:nvPr/>
        </p:nvSpPr>
        <p:spPr>
          <a:xfrm>
            <a:off x="34920" y="746280"/>
            <a:ext cx="9082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та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39"/>
          <p:cNvSpPr/>
          <p:nvPr/>
        </p:nvSpPr>
        <p:spPr>
          <a:xfrm>
            <a:off x="108000" y="2690640"/>
            <a:ext cx="263520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ед. =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27"/>
          <p:cNvSpPr/>
          <p:nvPr/>
        </p:nvSpPr>
        <p:spPr>
          <a:xfrm>
            <a:off x="1969920" y="1335240"/>
            <a:ext cx="5040360" cy="11458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2030 года: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5 578,58803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 2025 год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387,46018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5"/>
          <p:cNvSpPr/>
          <p:nvPr/>
        </p:nvSpPr>
        <p:spPr>
          <a:xfrm>
            <a:off x="2916360" y="2690640"/>
            <a:ext cx="316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5 ед.           94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Группа 54"/>
          <p:cNvGrpSpPr/>
          <p:nvPr/>
        </p:nvGrpSpPr>
        <p:grpSpPr>
          <a:xfrm>
            <a:off x="0" y="1123920"/>
            <a:ext cx="9144000" cy="138240"/>
            <a:chOff x="0" y="1123920"/>
            <a:chExt cx="9144000" cy="138240"/>
          </a:xfrm>
        </p:grpSpPr>
        <p:grpSp>
          <p:nvGrpSpPr>
            <p:cNvPr id="388" name="Прямоугольник 40"/>
            <p:cNvGrpSpPr/>
            <p:nvPr/>
          </p:nvGrpSpPr>
          <p:grpSpPr>
            <a:xfrm>
              <a:off x="0" y="1123920"/>
              <a:ext cx="9144000" cy="113040"/>
              <a:chOff x="0" y="1123920"/>
              <a:chExt cx="9144000" cy="113040"/>
            </a:xfrm>
          </p:grpSpPr>
          <p:pic>
            <p:nvPicPr>
              <p:cNvPr id="389" name="Прямоугольник 40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23920"/>
                <a:ext cx="9144000" cy="1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77760" y="1144800"/>
                <a:ext cx="8988480" cy="3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Прямоугольник 41"/>
            <p:cNvGrpSpPr/>
            <p:nvPr/>
          </p:nvGrpSpPr>
          <p:grpSpPr>
            <a:xfrm>
              <a:off x="0" y="1154880"/>
              <a:ext cx="9144000" cy="107280"/>
              <a:chOff x="0" y="1154880"/>
              <a:chExt cx="9144000" cy="107280"/>
            </a:xfrm>
          </p:grpSpPr>
          <p:pic>
            <p:nvPicPr>
              <p:cNvPr id="392" name="Прямоугольник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154880"/>
                <a:ext cx="914400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 rot="10800000">
                <a:off x="77760" y="1175040"/>
                <a:ext cx="898848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94" name="Рисунок 11" descr=""/>
          <p:cNvPicPr/>
          <p:nvPr/>
        </p:nvPicPr>
        <p:blipFill>
          <a:blip r:embed="rId4"/>
          <a:stretch/>
        </p:blipFill>
        <p:spPr>
          <a:xfrm>
            <a:off x="4392720" y="389736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95" name="Скругленный прямоугольник 18"/>
          <p:cNvSpPr/>
          <p:nvPr/>
        </p:nvSpPr>
        <p:spPr>
          <a:xfrm>
            <a:off x="6227640" y="2690640"/>
            <a:ext cx="280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ед.            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Рисунок 11" descr=""/>
          <p:cNvPicPr/>
          <p:nvPr/>
        </p:nvPicPr>
        <p:blipFill>
          <a:blip r:embed="rId5"/>
          <a:stretch/>
        </p:blipFill>
        <p:spPr>
          <a:xfrm>
            <a:off x="7470720" y="3825720"/>
            <a:ext cx="324000" cy="324000"/>
          </a:xfrm>
          <a:prstGeom prst="rect">
            <a:avLst/>
          </a:prstGeom>
          <a:ln w="0">
            <a:noFill/>
          </a:ln>
        </p:spPr>
      </p:pic>
      <p:grpSp>
        <p:nvGrpSpPr>
          <p:cNvPr id="397" name="Группа 1"/>
          <p:cNvGrpSpPr/>
          <p:nvPr/>
        </p:nvGrpSpPr>
        <p:grpSpPr>
          <a:xfrm>
            <a:off x="1386000" y="4811760"/>
            <a:ext cx="3168360" cy="1911240"/>
            <a:chOff x="1386000" y="4811760"/>
            <a:chExt cx="3168360" cy="1911240"/>
          </a:xfrm>
        </p:grpSpPr>
        <p:sp>
          <p:nvSpPr>
            <p:cNvPr id="398" name="Скругленный прямоугольник 20"/>
            <p:cNvSpPr/>
            <p:nvPr/>
          </p:nvSpPr>
          <p:spPr>
            <a:xfrm>
              <a:off x="1386000" y="4811760"/>
              <a:ext cx="3168360" cy="1911240"/>
            </a:xfrm>
            <a:prstGeom prst="roundRect">
              <a:avLst>
                <a:gd name="adj" fmla="val 0"/>
              </a:avLst>
            </a:prstGeom>
            <a:solidFill>
              <a:srgbClr val="ffffff">
                <a:alpha val="47000"/>
              </a:srgbClr>
            </a:solidFill>
            <a:ln w="38160">
              <a:solidFill>
                <a:srgbClr val="3030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00ff00"/>
                  </a:solidFill>
                  <a:latin typeface="Calibri"/>
                </a:rPr>
                <a:t>Уровень преступности (число зарегистрированных преступлений на 100 тыс. человек населения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458 ед.            1455 е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c000"/>
                  </a:solidFill>
                  <a:latin typeface="Calibri"/>
                  <a:ea typeface="Times New Roman"/>
                </a:rPr>
                <a:t>План на 2025 год: </a:t>
              </a:r>
              <a:r>
                <a:rPr b="1" lang="ru-RU" sz="1800" spc="-1" strike="noStrike">
                  <a:solidFill>
                    <a:srgbClr val="00ff00"/>
                  </a:solidFill>
                  <a:latin typeface="Calibri"/>
                  <a:ea typeface="Times New Roman"/>
                </a:rPr>
                <a:t>1458 е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9" name="Рисунок 10" descr=""/>
            <p:cNvPicPr/>
            <p:nvPr/>
          </p:nvPicPr>
          <p:blipFill>
            <a:blip r:embed="rId6"/>
            <a:stretch/>
          </p:blipFill>
          <p:spPr>
            <a:xfrm>
              <a:off x="2825640" y="5805360"/>
              <a:ext cx="32364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Скругленный прямоугольник 23"/>
          <p:cNvSpPr/>
          <p:nvPr/>
        </p:nvSpPr>
        <p:spPr>
          <a:xfrm>
            <a:off x="4775040" y="4811760"/>
            <a:ext cx="3168720" cy="1911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на улицах и в общественных местах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 ед.            87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Рисунок 10" descr=""/>
          <p:cNvPicPr/>
          <p:nvPr/>
        </p:nvPicPr>
        <p:blipFill>
          <a:blip r:embed="rId7"/>
          <a:stretch/>
        </p:blipFill>
        <p:spPr>
          <a:xfrm>
            <a:off x="6197760" y="5808600"/>
            <a:ext cx="32364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3942609-35D6-4FEE-A444-7EB4DA49DABC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404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6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8"/>
          <p:cNvSpPr/>
          <p:nvPr/>
        </p:nvSpPr>
        <p:spPr>
          <a:xfrm>
            <a:off x="6227640" y="1314360"/>
            <a:ext cx="291636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387,46018 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3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4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grpSp>
        <p:nvGrpSpPr>
          <p:cNvPr id="411" name="Группа 54"/>
          <p:cNvGrpSpPr/>
          <p:nvPr/>
        </p:nvGrpSpPr>
        <p:grpSpPr>
          <a:xfrm>
            <a:off x="0" y="1203480"/>
            <a:ext cx="9144000" cy="137880"/>
            <a:chOff x="0" y="1203480"/>
            <a:chExt cx="9144000" cy="137880"/>
          </a:xfrm>
        </p:grpSpPr>
        <p:grpSp>
          <p:nvGrpSpPr>
            <p:cNvPr id="412" name="Прямоугольник 18"/>
            <p:cNvGrpSpPr/>
            <p:nvPr/>
          </p:nvGrpSpPr>
          <p:grpSpPr>
            <a:xfrm>
              <a:off x="0" y="1203480"/>
              <a:ext cx="9144000" cy="112680"/>
              <a:chOff x="0" y="1203480"/>
              <a:chExt cx="9144000" cy="112680"/>
            </a:xfrm>
          </p:grpSpPr>
          <p:pic>
            <p:nvPicPr>
              <p:cNvPr id="413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203480"/>
                <a:ext cx="914400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77760" y="1224360"/>
                <a:ext cx="89884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Прямоугольник 19"/>
            <p:cNvGrpSpPr/>
            <p:nvPr/>
          </p:nvGrpSpPr>
          <p:grpSpPr>
            <a:xfrm>
              <a:off x="0" y="1234440"/>
              <a:ext cx="9144000" cy="106920"/>
              <a:chOff x="0" y="1234440"/>
              <a:chExt cx="9144000" cy="106920"/>
            </a:xfrm>
          </p:grpSpPr>
          <p:pic>
            <p:nvPicPr>
              <p:cNvPr id="416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234440"/>
                <a:ext cx="9144000" cy="10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 rot="10800000">
                <a:off x="77760" y="1254960"/>
                <a:ext cx="8988480" cy="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18" name="Диаграмма 14"/>
          <p:cNvGraphicFramePr/>
          <p:nvPr/>
        </p:nvGraphicFramePr>
        <p:xfrm>
          <a:off x="28440" y="1330200"/>
          <a:ext cx="9029880" cy="5486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19" name="Диаграмма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40" y="1330200"/>
                    <a:ext cx="9029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652320" y="167940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49400" y="2378160"/>
            <a:ext cx="55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949320" y="2778120"/>
            <a:ext cx="7988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экономического развития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комитет администрации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о делам несовершеннолетних, защите их прав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специальных мероприятий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ланирования, анализа и учета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492E6E2-1260-432F-A171-A1B40B5B5513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49320" y="163440"/>
              <a:ext cx="43862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020600" y="1098720"/>
            <a:ext cx="8088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14200" y="10731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14200" y="24811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738440" y="2517840"/>
            <a:ext cx="566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2" descr="img_sistema_112_700_390"/>
          <p:cNvPicPr/>
          <p:nvPr/>
        </p:nvPicPr>
        <p:blipFill>
          <a:blip r:embed="rId2"/>
          <a:stretch/>
        </p:blipFill>
        <p:spPr>
          <a:xfrm>
            <a:off x="7827840" y="1994040"/>
            <a:ext cx="1121040" cy="187632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63A07E3-C149-435C-9604-42B8BA092EA4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20"/>
            <p:cNvSpPr/>
            <p:nvPr/>
          </p:nvSpPr>
          <p:spPr>
            <a:xfrm>
              <a:off x="949320" y="163440"/>
              <a:ext cx="434340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Прямоугольник 18"/>
          <p:cNvSpPr/>
          <p:nvPr/>
        </p:nvSpPr>
        <p:spPr>
          <a:xfrm>
            <a:off x="0" y="6226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, региональных и муниципальных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1" descr=""/>
          <p:cNvPicPr/>
          <p:nvPr/>
        </p:nvPicPr>
        <p:blipFill>
          <a:blip r:embed="rId4"/>
          <a:stretch/>
        </p:blipFill>
        <p:spPr>
          <a:xfrm>
            <a:off x="219240" y="2835360"/>
            <a:ext cx="124452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2" descr=""/>
          <p:cNvPicPr/>
          <p:nvPr/>
        </p:nvPicPr>
        <p:blipFill>
          <a:blip r:embed="rId5"/>
          <a:stretch/>
        </p:blipFill>
        <p:spPr>
          <a:xfrm>
            <a:off x="291960" y="4821120"/>
            <a:ext cx="1140120" cy="1871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3"/>
          <p:cNvSpPr/>
          <p:nvPr/>
        </p:nvSpPr>
        <p:spPr>
          <a:xfrm>
            <a:off x="1738440" y="4452840"/>
            <a:ext cx="56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филактика правонарушений, незаконного оборота и потребления наркотических средств и психотропных вещест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4" descr=""/>
          <p:cNvPicPr/>
          <p:nvPr/>
        </p:nvPicPr>
        <p:blipFill>
          <a:blip r:embed="rId6"/>
          <a:stretch/>
        </p:blipFill>
        <p:spPr>
          <a:xfrm>
            <a:off x="7845480" y="3024360"/>
            <a:ext cx="1103400" cy="197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7851600" y="4095720"/>
            <a:ext cx="1109880" cy="17082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8"/>
          <a:stretch/>
        </p:blipFill>
        <p:spPr>
          <a:xfrm>
            <a:off x="7851600" y="5041800"/>
            <a:ext cx="1109880" cy="191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9"/>
          <a:stretch/>
        </p:blipFill>
        <p:spPr>
          <a:xfrm>
            <a:off x="285840" y="3822840"/>
            <a:ext cx="110952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686376F-731D-4ED6-9618-867CBB283D72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2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2"/>
          <p:cNvSpPr/>
          <p:nvPr/>
        </p:nvSpPr>
        <p:spPr>
          <a:xfrm>
            <a:off x="174600" y="280656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материально-техническими средствами, предназначенными для предупреждения и ликвидации чрезвычайных ситуац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6"/>
          <p:cNvSpPr/>
          <p:nvPr/>
        </p:nvSpPr>
        <p:spPr>
          <a:xfrm>
            <a:off x="6739560" y="23796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39"/>
          <p:cNvSpPr/>
          <p:nvPr/>
        </p:nvSpPr>
        <p:spPr>
          <a:xfrm>
            <a:off x="108000" y="34275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едуп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40"/>
          <p:cNvSpPr/>
          <p:nvPr/>
        </p:nvSpPr>
        <p:spPr>
          <a:xfrm>
            <a:off x="1979640" y="3355920"/>
            <a:ext cx="4829040" cy="865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формирования резервов материальных ресурсов (запасов) в целях экстренного привлечения необходимых средств в случае возникновения чрезвычайных ситуаций муниципального характера и в целях гражданской оборон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41"/>
          <p:cNvSpPr/>
          <p:nvPr/>
        </p:nvSpPr>
        <p:spPr>
          <a:xfrm>
            <a:off x="1979640" y="4248000"/>
            <a:ext cx="4829040" cy="8636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быстрого реагирования и улучшение взаимодействия экстренных оперативных служб в экстренных ситуациях с помощью Системы вызова экстренных оперативных служб по единому номеру "112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кругленный прямоугольник 42"/>
          <p:cNvSpPr/>
          <p:nvPr/>
        </p:nvSpPr>
        <p:spPr>
          <a:xfrm>
            <a:off x="1979640" y="5160960"/>
            <a:ext cx="4829040" cy="685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оповещения и информирования населения об опасностях, возникающих при чрезвычайных ситуациях природного и техногенного характер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кругленный прямоугольник 44"/>
          <p:cNvSpPr/>
          <p:nvPr/>
        </p:nvSpPr>
        <p:spPr>
          <a:xfrm>
            <a:off x="1971720" y="5894280"/>
            <a:ext cx="4829040" cy="963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Повышение уровня навыков применения правил поведения, способам защиты и действиям в ЧС, правилам пользования коллективными и индивидуальными средствами защиты при подготовке населения в области гражданской обороны и защиты населения путем обучения, повышения квалифик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Скругленный прямоугольник 45"/>
          <p:cNvSpPr/>
          <p:nvPr/>
        </p:nvSpPr>
        <p:spPr>
          <a:xfrm>
            <a:off x="6880320" y="3425760"/>
            <a:ext cx="2144520" cy="332424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3480">
                <a:moveTo>
                  <a:pt x="0" y="0"/>
                </a:moveTo>
                <a:arcTo wR="0" hR="0" stAng="16200000" swAng="-5400000"/>
                <a:lnTo>
                  <a:pt x="0" y="33480"/>
                </a:lnTo>
                <a:arcTo wR="0" hR="0" stAng="10800000" swAng="-5400000"/>
                <a:lnTo>
                  <a:pt x="21600" y="3348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B1DC479-ECA4-4C16-A7A2-235FF9C9ED0D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5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защиты населения и объектов защиты от пожар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70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кругленный прямоугольник 40"/>
          <p:cNvSpPr/>
          <p:nvPr/>
        </p:nvSpPr>
        <p:spPr>
          <a:xfrm>
            <a:off x="1908000" y="3344760"/>
            <a:ext cx="5112000" cy="130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Усиление мер по организации и осуществлению профилактики пожаров, в том числе организация обучения населения мерам пожарной безопасности, агитация в социальных сетях, проведение профилактических бесед, лекций, экскурс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жарной безопасности в населенных пун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кругленный прямоугольник 45"/>
          <p:cNvSpPr/>
          <p:nvPr/>
        </p:nvSpPr>
        <p:spPr>
          <a:xfrm>
            <a:off x="7093080" y="3344760"/>
            <a:ext cx="2023920" cy="33242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75">
                <a:moveTo>
                  <a:pt x="0" y="0"/>
                </a:moveTo>
                <a:arcTo wR="0" hR="0" stAng="16200000" swAng="-5400000"/>
                <a:lnTo>
                  <a:pt x="0" y="35475"/>
                </a:lnTo>
                <a:arcTo wR="0" hR="0" stAng="10800000" swAng="-5400000"/>
                <a:lnTo>
                  <a:pt x="21600" y="3547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41"/>
          <p:cNvSpPr/>
          <p:nvPr/>
        </p:nvSpPr>
        <p:spPr>
          <a:xfrm>
            <a:off x="1908000" y="4908600"/>
            <a:ext cx="5112000" cy="17604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авовой и социальной защиты личного состава добровольной пожарной охра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снащение подразделений добровольной пожарной охраны пожарной техникой, пожарно-техническим вооружением, аварийно-спасательным инструментом, средствами защиты и вещевым имущест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офессионального обучения личного состава добровольной пожарной охран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E160C54-3597-4C0E-A50B-AE3AAB649C6D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7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безопасности людей в местах отдыха на водных объекта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95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Скругленный прямоугольник 40"/>
          <p:cNvSpPr/>
          <p:nvPr/>
        </p:nvSpPr>
        <p:spPr>
          <a:xfrm>
            <a:off x="1903320" y="3344760"/>
            <a:ext cx="511200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Развитие системы защищенности населения и обеспечения безопасности в местах отдыха на водных объектах Нефтеюганского рай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1892160" y="4421160"/>
            <a:ext cx="5113440" cy="12398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пляжей, обозначение границ купания ограждающими буйк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Проведение очистки дна акватории пля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спасательных постов с плавсредствами, оборудованием, снаряж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Скругленный прямоугольник 41"/>
          <p:cNvSpPr/>
          <p:nvPr/>
        </p:nvSpPr>
        <p:spPr>
          <a:xfrm>
            <a:off x="1903320" y="5904000"/>
            <a:ext cx="5112000" cy="76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спас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медицинского персона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Скругленный прямоугольник 45"/>
          <p:cNvSpPr/>
          <p:nvPr/>
        </p:nvSpPr>
        <p:spPr>
          <a:xfrm>
            <a:off x="7083360" y="3344760"/>
            <a:ext cx="2025720" cy="332424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43">
                <a:moveTo>
                  <a:pt x="0" y="0"/>
                </a:moveTo>
                <a:arcTo wR="0" hR="0" stAng="16200000" swAng="-5400000"/>
                <a:lnTo>
                  <a:pt x="0" y="35443"/>
                </a:lnTo>
                <a:arcTo wR="0" hR="0" stAng="10800000" swAng="-5400000"/>
                <a:lnTo>
                  <a:pt x="21600" y="3544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46316DF-C899-4453-8210-423E6555189A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03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5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10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7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Скругленный прямоугольник 40"/>
          <p:cNvSpPr/>
          <p:nvPr/>
        </p:nvSpPr>
        <p:spPr>
          <a:xfrm>
            <a:off x="1903320" y="3457440"/>
            <a:ext cx="509292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оздание и совершенствование условий для деятельности народных дружин приведет к снижению уровня преступнос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в том числе на улицах и в общественных местах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1903320" y="4606920"/>
            <a:ext cx="5092920" cy="868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правовой и социальной защиты личного состава 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Материально-техническое обеспечение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Скругленный прямоугольник 41"/>
          <p:cNvSpPr/>
          <p:nvPr/>
        </p:nvSpPr>
        <p:spPr>
          <a:xfrm>
            <a:off x="1906560" y="5808600"/>
            <a:ext cx="5089680" cy="7635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Материальное стимулирование, личное страхование народных дружинников, участвующих в охране общественного поряд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Скругленный прямоугольник 45"/>
          <p:cNvSpPr/>
          <p:nvPr/>
        </p:nvSpPr>
        <p:spPr>
          <a:xfrm>
            <a:off x="7045200" y="3344760"/>
            <a:ext cx="2073240" cy="33242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31">
                <a:moveTo>
                  <a:pt x="0" y="0"/>
                </a:moveTo>
                <a:arcTo wR="0" hR="0" stAng="16200000" swAng="-5400000"/>
                <a:lnTo>
                  <a:pt x="0" y="34631"/>
                </a:lnTo>
                <a:arcTo wR="0" hR="0" stAng="10800000" swAng="-5400000"/>
                <a:lnTo>
                  <a:pt x="21600" y="346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на улицах и в общественных местах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367F87-1CF8-4A68-BF48-35549BBECAA5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3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Скругленный прямоугольник 27"/>
          <p:cNvSpPr/>
          <p:nvPr/>
        </p:nvSpPr>
        <p:spPr>
          <a:xfrm>
            <a:off x="1917720" y="3875040"/>
            <a:ext cx="5045040" cy="2227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правовой грамотности насел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деятельности административной комиссии Нефтеюганского райо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пределение перечня должностных лиц органов местного самоуправления, уполномоченных составлять протоколы об административных правонарушен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и государственных полномочий по составлению (изменению и дополнению) списков кандидатов в присяжные заседатели федеральных судов общей юрисдикции в Российской Федер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F4AF5B6-6FCB-46D0-8067-D967924BB81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5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овышение уровня правовой грамотности и формирование у населения навыков рационального потребительского поведе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6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27"/>
          <p:cNvSpPr/>
          <p:nvPr/>
        </p:nvSpPr>
        <p:spPr>
          <a:xfrm>
            <a:off x="1917720" y="4411800"/>
            <a:ext cx="5045040" cy="1425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Доля потребительских споров, разрешенных в досудебном и внесудебном порядке, в общем количестве споров с участием потребителей составит менее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5-01-20T12:23:05Z</dcterms:modified>
  <cp:revision>636</cp:revision>
  <dc:subject/>
  <dc:title>Слайд 1</dc:title>
</cp:coreProperties>
</file>